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8F8-E5FA-4298-8CF0-D7A7B433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8D9-B8B2-4BB1-B122-06798875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C5E-05DD-4D08-8C22-5903A18C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F90-43C2-4B93-8059-AFE8153A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817-F682-4347-80C6-4DC7F370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79C-C983-476F-96BE-93078C33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06D-8BE8-4B80-8DD7-FAED1993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CF6-964C-4E78-8223-A1DA8B1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431-BEEE-4BE9-9EFD-36949E9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46E-621A-4747-B486-BD79DC9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355-2C52-438E-BEFD-F3D5B5E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5AE-EB61-4DC4-B57F-8364D01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7336-B304-4726-8801-172D44AA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98100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Остромирово Евангелие» -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ревнейшая из сохранившихся русских рукописей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овгород. 1056-1057 гг.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Российская  национальная библиоте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776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08640"/>
            <a:ext cx="4716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Острожская Библия» -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ервое полное печатное издание церковнославянской Библии, напечатанное в Остроге (ок. Львова) Иваном Федоровым. 1581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Шедевр русского типографского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45882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иблия написана кириллицей Объем - 1256 страниц Использованы 6 шрифтов, текст напечатан в два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здано тиражом  3-4 тыс. эк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До наших дней дошло ок. 300 эк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9800" cy="443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54356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48000" y="189000"/>
            <a:ext cx="5400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ечатное Евангелие 1677 г.  Москва.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клад царевны Татьяны Михайловны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Новодевичий монастырь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Расцвеченные заставки, концовки, рамки, совершенные виньетки на полях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74084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ечатное Евангелие 1683 г. Моск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клад царевны Марии Алексее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Симонов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Миниатюра художников Федора и Максима Репьевых «Евангелист Иоан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805120" cy="436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041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4920" y="25992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наменты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ревнерусских  книг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IV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.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онохромные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3719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на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ревнерусских  книг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V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очная плет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08400" cy="504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478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44880" y="784080"/>
            <a:ext cx="72781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учреждение Краснодарская кра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иверсальная научная библиотека им. А.С.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ём вас ежедневно с 9.30 до 19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ятница и последний день месяца – вых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лефон для справок 8(861) 268-03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2637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Остромирово Евангелие».   1056-1057 гг.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Миниатюры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Евангелист Лука»    и    «Евангелист Мар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22680" cy="472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33920" y="189000"/>
            <a:ext cx="4510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35344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Архангельское Евангелие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нец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- начал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XI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в. Рукописная книга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сударственный исторический муз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3308" r="4406" b="3345"/>
          <a:stretch/>
        </p:blipFill>
        <p:spPr>
          <a:xfrm>
            <a:off x="324000" y="476280"/>
            <a:ext cx="3311280" cy="403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932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писная книга           Миниатюра – «Евангелист Матфей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пасское Евангелие»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Ярославский музей-заповед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67660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32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клад                                    Лист с инициалом В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Евангелие боярина Федора Кошки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ец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V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.  Моск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36920" cy="45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14920" y="1268280"/>
            <a:ext cx="53290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. 1571 г.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Ивана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Благовещенский собор Московского Кремл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олотой оклад с самоцветами, чеканкой, финифтью по с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92904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584520" cy="486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5112360"/>
            <a:ext cx="335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Еванге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драгоценном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Москва. Около 1415 г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престольное Евангели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Вклад митрополита Московского и Всея Руси Симона в Успенский Собор Московского Кремля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сква. 1499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еребро, литье, чеканка, скань, выемчатая финифть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495972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.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695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князя Репн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Троице-Сергиев монаст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апоны оклада из серебра; финифть по с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3200400" cy="458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11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260280"/>
            <a:ext cx="5651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 в оклад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ложено царем Федором Алексеевичем в Верхоспасский собор Московского кремл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Москва, мастерские Кремля, 1678.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Чеканный золотой оклад, украшенный эмалью по рельефу и резьбе, расписной эмалью, алмазами, изумрудами, рубинами и сапфи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49720" cy="450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38720" y="2997360"/>
            <a:ext cx="2656080" cy="386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96000" y="4437000"/>
            <a:ext cx="349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5228280"/>
            <a:ext cx="47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Евангелие в драгоценном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осква. 168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еребро, по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астер-золотарь – Ларион Се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Евангелие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осква. 1613 г.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Серебро, драгоценные камни, жемчуг, бархат, бумага, чеканка, чернь, золочение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4435920"/>
            <a:ext cx="41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апрестольное Евангелие с центральной дробницей «Воскресение Хри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Москва. 1780-е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Серебро, медь, стекло, чеканка, гравировка, чернь, живопись по финифти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305100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30398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12:51Z</dcterms:created>
  <dc:creator>giv</dc:creator>
  <dc:description/>
  <dc:language>en-US</dc:language>
  <cp:lastModifiedBy>vsr</cp:lastModifiedBy>
  <dcterms:modified xsi:type="dcterms:W3CDTF">2015-03-06T11:56:04Z</dcterms:modified>
  <cp:revision>15</cp:revision>
  <dc:subject/>
  <dc:title>«Остромирово Евангелие» -  древнейшая из сохранившихся русских рукописей  Новгород. 1056-1057 гг.   Российская  национальная библиотека  Санкт-Петербург</dc:title>
</cp:coreProperties>
</file>