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817-5C24-46DA-9283-2BF5B527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069-17D3-429C-B76A-A9EF2A92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A5A-699E-4B0F-9C45-E06C11ED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662-4317-4A99-9F1F-73FAA3D5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177-D06D-4E80-A80A-B7CED4F2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9B9-8CBD-4118-82FD-38223A7D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FF8-4DFC-400D-BF67-CD241F0C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90F-BFBD-48D5-A04A-B7554D04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846-84C8-44F3-AD90-5C6F247A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882-8FAB-430B-91F6-A0A693D1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FE2-7401-4A37-82C9-EA03E1B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7CB-8F45-4EE7-ADBB-0407E2F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FD2A-2B61-4A3C-BC99-CAFEED31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98100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Остромирово Евангелие» -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ревнейшая из сохранившихся русских рукописей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овгород. 1056-1057 гг.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Российская  национальная библиоте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776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508640"/>
            <a:ext cx="4716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Острожская Библия» -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ервое полное печатное издание церковнославянской Библии, напечатанное в Остроге (ок. Львова) Иваном Федоровым. 1581 г.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Шедевр русского типографского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45882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иблия написана кириллицей Объем - 1256 страниц Использованы 6 шрифтов, текст напечатан в два столб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здано тиражом  3-4 тыс. эк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До наших дней дошло ок. 300 эк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9800" cy="443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54356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48000" y="189000"/>
            <a:ext cx="5400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ечатное Евангелие 1677 г.  Москва.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клад царевны Татьяны Михайловны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 Новодевичий монастырь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Расцвеченные заставки, концовки, рамки, совершенные виньетки на полях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74084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ечатное Евангелие 1683 г. Моск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клад царевны Марии Алексее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 Симонов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Миниатюра художников Федора и Максима Репьевых «Евангелист Иоан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2805120" cy="436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041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34920" y="259920"/>
            <a:ext cx="45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рнаменты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ревнерусских  книг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IV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.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онохромные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53719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рна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ревнерусских  книг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V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Цветочная плет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308400" cy="504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478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229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Остромирово Евангелие».   1056-1057 гг.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Миниатюры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Евангелист Лука»    и    «Евангелист Мар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22680" cy="4724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33920" y="189000"/>
            <a:ext cx="4510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35344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Архангельское Евангелие»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нец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- начал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XI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вв. Рукописная книга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осударственный исторический муз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3308" r="4406" b="3345"/>
          <a:stretch/>
        </p:blipFill>
        <p:spPr>
          <a:xfrm>
            <a:off x="324000" y="476280"/>
            <a:ext cx="3311280" cy="403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4932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писная книга           Миниатюра – «Евангелист Матфей»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пасское Евангелие».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в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Ярославский музей-заповед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267660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3324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клад                                    Лист с инициалом В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Евангелие боярина Федора Кошки»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Конец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V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.  Моск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36920" cy="45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14920" y="1268280"/>
            <a:ext cx="53290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. 1571 г.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клад Ивана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Благовещенский собор Московского Кремля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Золотой оклад с самоцветами, чеканкой, финифтью по с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92904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584520" cy="486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5112360"/>
            <a:ext cx="335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Евангел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 драгоценном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Москва. Около 1415 г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престольное Евангелие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Вклад митрополита Московского и Всея Руси Симона в Успенский Собор Московского Кремля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сква. 1499 г.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еребро, литье, чеканка, скань, выемчатая финифть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495972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.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695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клад князя Репн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Троице-Сергиев монасты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Запоны оклада из серебра; финифть по с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3200400" cy="4581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311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720" y="260280"/>
            <a:ext cx="56512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 в окладе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ложено царем Федором Алексеевичем в Верхоспасский собор Московского кремля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Москва, мастерские Кремля, 1678.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Чеканный золотой оклад, украшенный эмалью по рельефу и резьбе, расписной эмалью, алмазами, изумрудами, рубинами и сапфи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49720" cy="4508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38720" y="2997360"/>
            <a:ext cx="2656080" cy="386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96000" y="4437000"/>
            <a:ext cx="349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5228280"/>
            <a:ext cx="47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Евангелие в драгоценном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Москва. 168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еребро, по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Мастер-золотарь – Ларион Сем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Евангелие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Москва. 1613 г.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Серебро, драгоценные камни, жемчуг, бархат, бумага, чеканка, чернь, золочение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4435920"/>
            <a:ext cx="41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апрестольное Евангелие с центральной дробницей «Воскресение Хри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Москва. 1780-е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Серебро, медь, стекло, чеканка, гравировка, чернь, живопись по финифти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305100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30398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12:51Z</dcterms:created>
  <dc:creator>giv</dc:creator>
  <dc:description/>
  <dc:language>en-US</dc:language>
  <cp:lastModifiedBy>giv</cp:lastModifiedBy>
  <dcterms:modified xsi:type="dcterms:W3CDTF">2011-05-19T05:26:39Z</dcterms:modified>
  <cp:revision>14</cp:revision>
  <dc:subject/>
  <dc:title>«Остромирово Евангелие» -  древнейшая из сохранившихся русских рукописей  Новгород. 1056-1057 гг.   Российская  национальная библиотека  Санкт-Петербург</dc:title>
</cp:coreProperties>
</file>