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7452-392B-41AA-B008-511E0D15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11FC-2327-4E3B-857E-FFAB7327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9825-0A7B-4485-BD0E-F595FC36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06527-7590-49DE-917A-037A98B7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A418-AA79-430F-8E05-26EEC96B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626E-DD88-474E-B855-F582658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B481-535A-4F99-9FA3-A3F80454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13E7-69AD-4765-AC86-089E5FC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35B4-3CBC-4123-9BE1-B11EBC9A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DF5-69A7-4E73-87BA-1B9D1D96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164D-03A2-41A7-BDAD-839E8B2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FBA5-143C-4AC4-B955-5D8F807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2589-5865-4C17-93A7-9D129A8A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175F-8A19-4958-9717-33FB891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C26-DB8F-4D12-AA8C-6E863FED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1E94-A75F-4295-BD0F-314C8694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85E9-7285-4C30-9AAC-0A61452E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C826-5C4E-4030-9D6F-B1A28C5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17FF-6286-4954-950E-8C1B024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A158-FC7C-4FC1-8D9C-43AD256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BC1F-58E9-4452-B392-6AA3D2F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4596-4ED9-496B-9F23-B26D1F69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01E2-5500-458C-AC85-02F6106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1BC7-55C2-4EDD-910B-D715B452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D61-78B8-4D37-A6D5-9404BCA52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3CC-A645-410E-9AFF-04FEF5100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0" y="40464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789360"/>
            <a:ext cx="8352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ля живого человека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Кто вкус истины постиг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Слово библио и тека –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е хранилище для книг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2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88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735440" cy="6597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000" y="475920"/>
            <a:ext cx="471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созвездье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антологий, Судеб, взятых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в переплет,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де, чем дальше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от дороги,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м горшее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сладкий ме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5000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2881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84768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Мед познания и чтенья,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Чтенья рода своего,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Языка предназначенья,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Речи русской торжество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1000"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578480" cy="6308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16000" y="333000"/>
            <a:ext cx="4427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Душ закрытых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открыватель,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Мы с тобой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   одной крови,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отому что ты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     – спасатель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Рода, Родины, 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           Любви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4000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0" b="7826"/>
          <a:stretch/>
        </p:blipFill>
        <p:spPr>
          <a:xfrm>
            <a:off x="457200" y="404640"/>
            <a:ext cx="82296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09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Мир, вчера слетевши с петель,</a:t>
            </a:r>
            <a:br>
              <a:rPr sz="4000"/>
            </a:b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Снова целится в петлю,</a:t>
            </a:r>
            <a:br>
              <a:rPr sz="4000"/>
            </a:b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Так спаси его, радетель</a:t>
            </a:r>
            <a:br>
              <a:rPr sz="4000"/>
            </a:b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Слов, где главное – люб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2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Стань преградою злословью,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Говори лжецу: не лги…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Между смертью и любовью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Сделать выбор помог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advTm="11000"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81468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И тогда не взвоет волком</a:t>
            </a:r>
            <a:br>
              <a:rPr sz="4400"/>
            </a:b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Тьма… И выживет народ.</a:t>
            </a:r>
            <a:br>
              <a:rPr sz="4400"/>
            </a:b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И тропа к библейским полкам</a:t>
            </a:r>
            <a:br>
              <a:rPr sz="4400"/>
            </a:br>
            <a:r>
              <a:rPr b="1" i="1" lang="en-US" sz="4400" spc="-1" strike="noStrike">
                <a:solidFill>
                  <a:srgbClr val="e5e5ff"/>
                </a:solidFill>
                <a:latin typeface="Times New Roman"/>
              </a:rPr>
              <a:t>Никогда не зарастет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87640" y="594972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. Домбров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15000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936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5:13:10Z</dcterms:created>
  <dc:creator>giv</dc:creator>
  <dc:description/>
  <dc:language>en-US</dc:language>
  <cp:lastModifiedBy>giv</cp:lastModifiedBy>
  <dcterms:modified xsi:type="dcterms:W3CDTF">2009-05-18T06:43:24Z</dcterms:modified>
  <cp:revision>6</cp:revision>
  <dc:subject/>
  <dc:title>Для живого человека, Кто вкус истины постиг, Слово библио и тека – Не хранилище для книг.</dc:title>
</cp:coreProperties>
</file>