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8C6-74C1-4C2E-B1A5-C9095AA3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4E4-B2E4-4C71-9A29-36027FCF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AB96-967F-4BBC-97EF-C4260A65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7D36-5EF8-4C64-942C-28302E95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E801-546B-4B4B-821C-839BEACD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BAF-4F9E-4E0C-93B1-D5BB735D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5A59-CDED-4EDC-A052-DCA62BFA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393-5399-45F1-AE8D-1C0A3F90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7DCE-4C00-457B-A687-C9A9FD2E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2D51-DC7D-4191-AA2A-E026132E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D54-1D79-4886-A156-58275AE1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5A13-470D-4B3E-A2C6-60223174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76A2-34E5-4573-8C29-8182335046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88000" y="981000"/>
            <a:ext cx="4176720" cy="53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Остромирово Евангелие» -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ревнейшая из сохранившихся русских рукописей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вгород. 1056-1057 гг. 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Российская  национальная библиотека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3 Остромирово Еванг"/>
          <p:cNvPicPr/>
          <p:nvPr/>
        </p:nvPicPr>
        <p:blipFill>
          <a:blip r:embed="rId1"/>
          <a:stretch/>
        </p:blipFill>
        <p:spPr>
          <a:xfrm>
            <a:off x="0" y="907920"/>
            <a:ext cx="47768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4508640"/>
            <a:ext cx="471636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Острожская Библия» -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первое полное печатное издание церковнославянской Библии, напечатанное в Остроге (ок. Львова) Иваном Федоровым. 1581 г.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Шедевр русского типографского искус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967280" y="4986360"/>
            <a:ext cx="363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643280" y="45882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Библия написана кириллицей Объем - 1256 страниц Использованы 6 шрифтов, текст напечатан в два столб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здано тиражом  3-4 тыс. эк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До наших дней дошло ок. 300 эк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21 Острожская Библия"/>
          <p:cNvPicPr/>
          <p:nvPr/>
        </p:nvPicPr>
        <p:blipFill>
          <a:blip r:embed="rId1"/>
          <a:stretch/>
        </p:blipFill>
        <p:spPr>
          <a:xfrm>
            <a:off x="0" y="0"/>
            <a:ext cx="3349800" cy="4437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22 Острожская Библия"/>
          <p:cNvPicPr/>
          <p:nvPr/>
        </p:nvPicPr>
        <p:blipFill>
          <a:blip r:embed="rId2"/>
          <a:stretch/>
        </p:blipFill>
        <p:spPr>
          <a:xfrm>
            <a:off x="3708360" y="404640"/>
            <a:ext cx="543564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348000" y="189000"/>
            <a:ext cx="5400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Печатное Евангелие 1677 г.  Москва.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клад царевны Татьяны Михайловны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Новодевичий монастырь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Расцвеченные заставки, концовки, рамки, совершенные виньетки на полях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967280" y="4986360"/>
            <a:ext cx="363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24000" y="4740840"/>
            <a:ext cx="52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Печатное Евангелие 1683 г. Моск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клад царевны Марии Алексеевн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Симонов монаст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Миниатюра художников Федора и Максима Репьевых «Евангелист Иоан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23 Печатное Евангелие 1677г 0001"/>
          <p:cNvPicPr/>
          <p:nvPr/>
        </p:nvPicPr>
        <p:blipFill>
          <a:blip r:embed="rId1"/>
          <a:stretch/>
        </p:blipFill>
        <p:spPr>
          <a:xfrm>
            <a:off x="468360" y="0"/>
            <a:ext cx="2805120" cy="4365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24 Печатное Евангелие 1683 г"/>
          <p:cNvPicPr/>
          <p:nvPr/>
        </p:nvPicPr>
        <p:blipFill>
          <a:blip r:embed="rId2"/>
          <a:stretch/>
        </p:blipFill>
        <p:spPr>
          <a:xfrm>
            <a:off x="5796000" y="1989000"/>
            <a:ext cx="30416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34920" y="259920"/>
            <a:ext cx="4537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рнаменты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ревнерусских  книг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XIV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.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Монохромные рос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967280" y="4986360"/>
            <a:ext cx="363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84360" y="537192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рнам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ревнерусских  книг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XVI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Цветочная плет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25 Орнамент 14в"/>
          <p:cNvPicPr/>
          <p:nvPr/>
        </p:nvPicPr>
        <p:blipFill>
          <a:blip r:embed="rId1"/>
          <a:stretch/>
        </p:blipFill>
        <p:spPr>
          <a:xfrm>
            <a:off x="250920" y="189000"/>
            <a:ext cx="3308400" cy="504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26 Орнамент 16в"/>
          <p:cNvPicPr/>
          <p:nvPr/>
        </p:nvPicPr>
        <p:blipFill>
          <a:blip r:embed="rId2"/>
          <a:stretch/>
        </p:blipFill>
        <p:spPr>
          <a:xfrm>
            <a:off x="5364000" y="1484280"/>
            <a:ext cx="34783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D:\Users\vsr\Pictures\Библиотека 2010 фот\Пушкинский День России.jpg"/>
          <p:cNvPicPr/>
          <p:nvPr/>
        </p:nvPicPr>
        <p:blipFill>
          <a:blip r:embed="rId1"/>
          <a:stretch/>
        </p:blipFill>
        <p:spPr>
          <a:xfrm>
            <a:off x="324000" y="333360"/>
            <a:ext cx="8638920" cy="57596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1332000" y="62690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иблиотека им. А.С. Пушкина, г. Краснодар ул. Красная, д.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22900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Остромирово Евангелие».   1056-1057 гг.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иниатюры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Евангелист Лука»    и    «Евангелист Мар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5 Остромирово Еванг"/>
          <p:cNvPicPr/>
          <p:nvPr/>
        </p:nvPicPr>
        <p:blipFill>
          <a:blip r:embed="rId1"/>
          <a:stretch/>
        </p:blipFill>
        <p:spPr>
          <a:xfrm>
            <a:off x="0" y="189000"/>
            <a:ext cx="4522680" cy="4724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6 Остромирово Еванг"/>
          <p:cNvPicPr/>
          <p:nvPr/>
        </p:nvPicPr>
        <p:blipFill>
          <a:blip r:embed="rId2"/>
          <a:stretch/>
        </p:blipFill>
        <p:spPr>
          <a:xfrm>
            <a:off x="4633920" y="189000"/>
            <a:ext cx="4510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4797000"/>
            <a:ext cx="8353440" cy="15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Архангельское Евангелие»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Конец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XII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- начало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XIII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вв. Рукописная книга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осударственный исторический муз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7 Архангельское Еванг"/>
          <p:cNvPicPr/>
          <p:nvPr/>
        </p:nvPicPr>
        <p:blipFill>
          <a:blip r:embed="rId1"/>
          <a:srcRect l="0" t="3308" r="4406" b="3345"/>
          <a:stretch/>
        </p:blipFill>
        <p:spPr>
          <a:xfrm>
            <a:off x="324000" y="476280"/>
            <a:ext cx="3311280" cy="4032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8 Архангельское Еванг"/>
          <p:cNvPicPr/>
          <p:nvPr/>
        </p:nvPicPr>
        <p:blipFill>
          <a:blip r:embed="rId2"/>
          <a:stretch/>
        </p:blipFill>
        <p:spPr>
          <a:xfrm>
            <a:off x="3924360" y="765000"/>
            <a:ext cx="4932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79700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укописная книга           Миниатюра – «Евангелист Матфей»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Спасское Евангелие».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XIII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в.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Ярославский музей-заповедни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9 Спасское Еванг"/>
          <p:cNvPicPr/>
          <p:nvPr/>
        </p:nvPicPr>
        <p:blipFill>
          <a:blip r:embed="rId1"/>
          <a:stretch/>
        </p:blipFill>
        <p:spPr>
          <a:xfrm>
            <a:off x="468360" y="0"/>
            <a:ext cx="2676600" cy="460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10 Спасское Еванг"/>
          <p:cNvPicPr/>
          <p:nvPr/>
        </p:nvPicPr>
        <p:blipFill>
          <a:blip r:embed="rId2"/>
          <a:stretch/>
        </p:blipFill>
        <p:spPr>
          <a:xfrm>
            <a:off x="4427640" y="0"/>
            <a:ext cx="33242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79700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Оклад                                    Лист с инициалом В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Евангелие боярина Федора Кошки»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Конец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XIV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.  Моск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11 Еванг"/>
          <p:cNvPicPr/>
          <p:nvPr/>
        </p:nvPicPr>
        <p:blipFill>
          <a:blip r:embed="rId1"/>
          <a:stretch/>
        </p:blipFill>
        <p:spPr>
          <a:xfrm>
            <a:off x="250920" y="0"/>
            <a:ext cx="3436920" cy="4508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12 Еванг"/>
          <p:cNvPicPr/>
          <p:nvPr/>
        </p:nvPicPr>
        <p:blipFill>
          <a:blip r:embed="rId2"/>
          <a:stretch/>
        </p:blipFill>
        <p:spPr>
          <a:xfrm>
            <a:off x="3814920" y="1268280"/>
            <a:ext cx="532908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4797000"/>
            <a:ext cx="4176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вангелие. 1571 г.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клад Ивана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V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Благовещенский собор Московского Кремля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Золотой оклад с самоцветами, чеканкой, финифтью по с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13 Еванг"/>
          <p:cNvPicPr/>
          <p:nvPr/>
        </p:nvPicPr>
        <p:blipFill>
          <a:blip r:embed="rId1"/>
          <a:stretch/>
        </p:blipFill>
        <p:spPr>
          <a:xfrm>
            <a:off x="539640" y="0"/>
            <a:ext cx="392904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14 Евангелие"/>
          <p:cNvPicPr/>
          <p:nvPr/>
        </p:nvPicPr>
        <p:blipFill>
          <a:blip r:embed="rId2"/>
          <a:stretch/>
        </p:blipFill>
        <p:spPr>
          <a:xfrm>
            <a:off x="4932360" y="0"/>
            <a:ext cx="3584520" cy="4869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4967280" y="4986360"/>
            <a:ext cx="363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5003640" y="5112360"/>
            <a:ext cx="3359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вангел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драгоценном окл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Москва. Около 1415 г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4176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Напрестольное Евангелие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Вклад митрополита Московского и Всея Руси Симона в Успенский Собор Московского Кремля.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осква. 1499 г.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Серебро, литье, чеканка, скань, выемчатая финифть в окл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967280" y="4986360"/>
            <a:ext cx="363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003640" y="495972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вангелие.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695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клад князя Репн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Троице-Сергиев монасты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Запоны оклада из серебра; финифть по с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15 Евангелие"/>
          <p:cNvPicPr/>
          <p:nvPr/>
        </p:nvPicPr>
        <p:blipFill>
          <a:blip r:embed="rId1"/>
          <a:stretch/>
        </p:blipFill>
        <p:spPr>
          <a:xfrm>
            <a:off x="684360" y="0"/>
            <a:ext cx="3200400" cy="4581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16 Евангелие"/>
          <p:cNvPicPr/>
          <p:nvPr/>
        </p:nvPicPr>
        <p:blipFill>
          <a:blip r:embed="rId2"/>
          <a:stretch/>
        </p:blipFill>
        <p:spPr>
          <a:xfrm>
            <a:off x="5292720" y="0"/>
            <a:ext cx="3112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76720" y="260280"/>
            <a:ext cx="565128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вангелие в окладе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ложено царем Федором Алексеевичем в Верхоспасский собор Московского кремля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Москва, мастерские Кремля, 1678.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Чеканный золотой оклад, украшенный эмалью по рельефу и резьбе, расписной эмалью, алмазами, изумрудами, рубинами и сапфи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17 Евангелие в окладе Федор Алекс"/>
          <p:cNvPicPr/>
          <p:nvPr/>
        </p:nvPicPr>
        <p:blipFill>
          <a:blip r:embed="rId1"/>
          <a:stretch/>
        </p:blipFill>
        <p:spPr>
          <a:xfrm>
            <a:off x="0" y="0"/>
            <a:ext cx="3249720" cy="4508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18 Евангелие"/>
          <p:cNvPicPr/>
          <p:nvPr/>
        </p:nvPicPr>
        <p:blipFill>
          <a:blip r:embed="rId2"/>
          <a:stretch/>
        </p:blipFill>
        <p:spPr>
          <a:xfrm>
            <a:off x="6138720" y="2997360"/>
            <a:ext cx="2656080" cy="3860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1"/>
          <p:cNvSpPr/>
          <p:nvPr/>
        </p:nvSpPr>
        <p:spPr>
          <a:xfrm>
            <a:off x="4896000" y="4437000"/>
            <a:ext cx="3492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1403280" y="5228280"/>
            <a:ext cx="47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вангелие в драгоценном окл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осква. 168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еребро, позол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астер-золотарь – Ларион Сем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4176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вангелие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осква. 1613 г.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Серебро, драгоценные камни, жемчуг, бархат, бумага, чеканка, чернь, золочение в окл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967280" y="4986360"/>
            <a:ext cx="363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4643280" y="4435920"/>
            <a:ext cx="417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Напрестольное Евангелие с центральной дробницей «Воскресение Хрис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осква. 1780-е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Серебро, медь, стекло, чеканка, гравировка, чернь, живопись по финифти в окл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19 Евангелие"/>
          <p:cNvPicPr/>
          <p:nvPr/>
        </p:nvPicPr>
        <p:blipFill>
          <a:blip r:embed="rId1"/>
          <a:stretch/>
        </p:blipFill>
        <p:spPr>
          <a:xfrm>
            <a:off x="684360" y="0"/>
            <a:ext cx="3051000" cy="450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20 Еванг"/>
          <p:cNvPicPr/>
          <p:nvPr/>
        </p:nvPicPr>
        <p:blipFill>
          <a:blip r:embed="rId2"/>
          <a:stretch/>
        </p:blipFill>
        <p:spPr>
          <a:xfrm>
            <a:off x="4788000" y="0"/>
            <a:ext cx="30398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2:12:51Z</dcterms:created>
  <dc:creator>giv</dc:creator>
  <dc:description/>
  <dc:language>en-US</dc:language>
  <cp:lastModifiedBy>Сергей Р.В.</cp:lastModifiedBy>
  <dcterms:modified xsi:type="dcterms:W3CDTF">2015-06-01T06:25:50Z</dcterms:modified>
  <cp:revision>16</cp:revision>
  <dc:subject/>
  <dc:title>«Остромирово Евангелие» -  древнейшая из сохранившихся русских рукописей  Новгород. 1056-1057 гг.   Российская  национальная библиотека  Санкт-Петербург</dc:title>
</cp:coreProperties>
</file>