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F1D-CD26-4CD2-80BA-934EFE86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D2D-02D2-46AC-92D5-75E5211E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A1E-6693-4ED1-A44B-71AA3D39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257-B73A-4822-ACB2-5B7E3595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EFAF-51A7-4D8A-B7E6-E37336F0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09B2-FB9B-45C2-99EB-525B9CF9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6028-9749-4791-B59E-1748C010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2548-B72B-4094-AD4A-C5BA1D0E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47DC-3ADD-408C-A1E6-44C882ED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2BFF-C862-47C0-AC5A-04EE5AAB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82B8-54BE-4F03-98C4-9176B7F4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052-740B-46DB-A994-150ABA89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F483-363F-43BD-967E-BF995C55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F30A-43C0-4B2F-9766-8BD5F500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A4C4-BC03-42AE-8B27-AFCDB31F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2F17-4A00-4473-A86E-072086CF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7915-E775-4847-AB02-0896E7BD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986-6BE8-4906-8C8D-3430D1F6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5EE-8BF6-4934-AF9A-B5E22D8B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D2E-B4D2-4072-A967-62624BDE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E86-F588-45D0-9748-24A5A78E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1D8-EB89-409C-9DD6-0534F298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4A0-8A80-424D-B442-F8E1540A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0D2-0902-4F2B-BBB9-AEEC303B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B40E-5BF2-43CD-BCC0-C933CDD99C7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85D7-FC37-4394-B3CD-A5B8A13C67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7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17" descr="ballet-background-15"/>
          <p:cNvPicPr/>
          <p:nvPr/>
        </p:nvPicPr>
        <p:blipFill>
          <a:blip r:embed="rId1"/>
          <a:stretch/>
        </p:blipFill>
        <p:spPr>
          <a:xfrm>
            <a:off x="0" y="4941720"/>
            <a:ext cx="9144000" cy="191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ПЕТИП 4"/>
          <p:cNvPicPr/>
          <p:nvPr/>
        </p:nvPicPr>
        <p:blipFill>
          <a:blip r:embed="rId2"/>
          <a:stretch/>
        </p:blipFill>
        <p:spPr>
          <a:xfrm>
            <a:off x="0" y="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84360" y="692280"/>
            <a:ext cx="77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a0400"/>
                </a:solidFill>
                <a:latin typeface="Arial"/>
                <a:ea typeface="Arial"/>
              </a:rPr>
              <a:t>БАЛЕТ – «ВИЗИТНАЯ КАРТОЧКА» РОССИЙСКОЙ КУЛЬТУР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484360" y="443700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Arial"/>
                <a:ea typeface="Arial"/>
              </a:rPr>
              <a:t>Обзор книжной выстав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4211640" y="5780160"/>
            <a:ext cx="388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Arial Unicode MS"/>
              </a:rPr>
              <a:t>ККУНБ им. А.С. Пушки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Arial Unicode MS"/>
              </a:rPr>
              <a:t>Отдел городского абонемен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Arial Unicode MS"/>
              </a:rPr>
              <a:t>г. Краснода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Arial Unicode MS"/>
              </a:rPr>
              <a:t>201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1908000" y="299736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3132000" y="3789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1187280" y="314172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6a0400"/>
                </a:solidFill>
                <a:latin typeface="Arial"/>
                <a:ea typeface="Arial"/>
              </a:rPr>
              <a:t>К 200-летию со дня рождения Мариуса Петипа и Году балета в Росс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ПЕТИП 2"/>
          <p:cNvPicPr/>
          <p:nvPr/>
        </p:nvPicPr>
        <p:blipFill>
          <a:blip r:embed="rId1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ПЕТИП 4"/>
          <p:cNvPicPr/>
          <p:nvPr/>
        </p:nvPicPr>
        <p:blipFill>
          <a:blip r:embed="rId2"/>
          <a:stretch/>
        </p:blipFill>
        <p:spPr>
          <a:xfrm>
            <a:off x="0" y="2414520"/>
            <a:ext cx="9144000" cy="3894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ПЕТИП 1"/>
          <p:cNvPicPr/>
          <p:nvPr/>
        </p:nvPicPr>
        <p:blipFill>
          <a:blip r:embed="rId3"/>
          <a:stretch/>
        </p:blipFill>
        <p:spPr>
          <a:xfrm>
            <a:off x="0" y="6281640"/>
            <a:ext cx="914400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allet-background-11"/>
          <p:cNvPicPr/>
          <p:nvPr/>
        </p:nvPicPr>
        <p:blipFill>
          <a:blip r:embed="rId4"/>
          <a:stretch/>
        </p:blipFill>
        <p:spPr>
          <a:xfrm>
            <a:off x="7077240" y="3645000"/>
            <a:ext cx="1798560" cy="54799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2"/>
          <p:cNvSpPr/>
          <p:nvPr/>
        </p:nvSpPr>
        <p:spPr>
          <a:xfrm>
            <a:off x="250920" y="14842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Ушедшее время сохранило подлинные ценности. В историю русского балетного театра М. Петипа вошел как великий мастер. За полвека работы в России хореограф вывел на сцену более 60-ти балетных спектаклей. Его балеты идут на сценах всего мира, а имя его, по праву, считается величайшим не только в истории русского балета, но и всей мировой хореограф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2" descr="https://sochi.kassir.ru/media/uploads/image/thumb_cache_new600x400_0d71d261bb2d964d8fd2289af827ddd8.png"/>
          <p:cNvPicPr/>
          <p:nvPr/>
        </p:nvPicPr>
        <p:blipFill>
          <a:blip r:embed="rId5"/>
          <a:stretch/>
        </p:blipFill>
        <p:spPr>
          <a:xfrm>
            <a:off x="2743200" y="3071880"/>
            <a:ext cx="3865680" cy="2798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d:\Users\blv\Desktop\петипа\презент петипа\бал 11.jpg"/>
          <p:cNvPicPr/>
          <p:nvPr/>
        </p:nvPicPr>
        <p:blipFill>
          <a:blip r:embed="rId6"/>
          <a:stretch/>
        </p:blipFill>
        <p:spPr>
          <a:xfrm>
            <a:off x="457200" y="3718080"/>
            <a:ext cx="21463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2" descr="d:\Users\blv\Desktop\петипа\презент петипа\ballet-backgroun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11"/>
          <p:cNvSpPr/>
          <p:nvPr/>
        </p:nvSpPr>
        <p:spPr>
          <a:xfrm>
            <a:off x="1547640" y="2708280"/>
            <a:ext cx="64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Уважаемые читатели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Ждем вас по адресу: г. Краснодар, ул. Красная, д. 8, библиотека им. А.С. Пушк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отдел городского абонемент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ежедневно с 9.30 до 19 час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Выходной – пятниц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Телефон 8(861) 268-52-49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5076720" y="119700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Материал подготовлен Л.И. Карнаух, гл. библиотекарем  отдела городского абонемент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ПЕТИП 2"/>
          <p:cNvPicPr/>
          <p:nvPr/>
        </p:nvPicPr>
        <p:blipFill>
          <a:blip r:embed="rId1"/>
          <a:stretch/>
        </p:blipFill>
        <p:spPr>
          <a:xfrm>
            <a:off x="0" y="0"/>
            <a:ext cx="9144000" cy="2637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ПЕТИП 4"/>
          <p:cNvPicPr/>
          <p:nvPr/>
        </p:nvPicPr>
        <p:blipFill>
          <a:blip r:embed="rId2"/>
          <a:stretch/>
        </p:blipFill>
        <p:spPr>
          <a:xfrm>
            <a:off x="0" y="2414520"/>
            <a:ext cx="9144000" cy="389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ПЕТИП 1"/>
          <p:cNvPicPr/>
          <p:nvPr/>
        </p:nvPicPr>
        <p:blipFill>
          <a:blip r:embed="rId3"/>
          <a:stretch/>
        </p:blipFill>
        <p:spPr>
          <a:xfrm>
            <a:off x="0" y="6281640"/>
            <a:ext cx="9144000" cy="5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D:\Users\blv\Pictures\img51.jpg"/>
          <p:cNvPicPr/>
          <p:nvPr/>
        </p:nvPicPr>
        <p:blipFill>
          <a:blip r:embed="rId4"/>
          <a:stretch/>
        </p:blipFill>
        <p:spPr>
          <a:xfrm>
            <a:off x="115920" y="1566720"/>
            <a:ext cx="2987640" cy="38466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3564000" y="1341360"/>
            <a:ext cx="54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Русский балет! Кто не знает о той славе, о том общественном признании, о том мировом приоритете, которыми отмечен путь отечественного балетного искусства?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Школа русского балета, существующая более 200 лет, является подлинной академией танца. Опираясь на традиции, проверенные временем, она готовит настоящих мастеров своего дел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В развитии балетного искусства роль балетмейстера является решающей. Именно от него зависит создание таких произведений, которые отражали бы жизнь в ее непрестанном развит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Box 18"/>
          <p:cNvSpPr/>
          <p:nvPr/>
        </p:nvSpPr>
        <p:spPr>
          <a:xfrm>
            <a:off x="179280" y="53006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Яркой страницей в истории русского балета является творчество М. Петипа, двухсотлетие (1818 – 1910) со дня рождения которого отмечает весь балетный ми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ПЕТИП 2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ПЕТИП 4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424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ПЕТИП 1"/>
          <p:cNvPicPr/>
          <p:nvPr/>
        </p:nvPicPr>
        <p:blipFill>
          <a:blip r:embed="rId3"/>
          <a:stretch/>
        </p:blipFill>
        <p:spPr>
          <a:xfrm>
            <a:off x="0" y="6281640"/>
            <a:ext cx="9144000" cy="57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Картинки по запросу картинки портрет м. петипа"/>
          <p:cNvPicPr/>
          <p:nvPr/>
        </p:nvPicPr>
        <p:blipFill>
          <a:blip r:embed="rId4"/>
          <a:stretch/>
        </p:blipFill>
        <p:spPr>
          <a:xfrm>
            <a:off x="-96840" y="1139760"/>
            <a:ext cx="3230640" cy="40053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2"/>
          <p:cNvSpPr/>
          <p:nvPr/>
        </p:nvSpPr>
        <p:spPr>
          <a:xfrm>
            <a:off x="3348000" y="1052640"/>
            <a:ext cx="5796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Мариус Петипа родился 11 марта 1818 года во Франции. Его отцом был артист балета и хореограф, мать – драматической актрисой. Общее образование Мариус получил в брюссельской гимназии, а хореографии обучался в классе своего отца. В начале 1830-х годов семья перебралась во Францию, где Петипа начал заниматься со знаменитым хореографом  О. Вестрисом.  Позже выступал в Бордо, вместе с отцом гастролировал в Нью-Йорке, работал в Испании. В 1847 году Петипа был приглашен в Петербург, а в 1869 году стал главным балетмейстером  Петербургских императорских театров. Это место он занимал до 1903 года. В 1894 году балетмейстер принял русское подданство. Русских артистов он считал лучшими в мире, говоря о том, что способность к танцу у русских просто врожденная и требует лишь тренировок и шлифов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108000" y="5013360"/>
            <a:ext cx="903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Мариус Петипа жил в Петербурге до 1907 года, а затем по настоянию врачей уехал вместе с семьей в Крым, где провел остаток своей  жизни. 14 июля 1910 года Петипа скончался в Гурзуфе. Его тело было перевезено в Петербург и похоронено на Волковском кладбище, в 1948 году прах балетмейстера был перенесен на Тихвинское кладбище Александро-Невской  лав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Овал 15"/>
          <p:cNvSpPr/>
          <p:nvPr/>
        </p:nvSpPr>
        <p:spPr>
          <a:xfrm>
            <a:off x="4284720" y="620640"/>
            <a:ext cx="367200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c6d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Box 16"/>
          <p:cNvSpPr/>
          <p:nvPr/>
        </p:nvSpPr>
        <p:spPr>
          <a:xfrm>
            <a:off x="4932360" y="62064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Биографическая справ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ПЕТИП 2"/>
          <p:cNvPicPr/>
          <p:nvPr/>
        </p:nvPicPr>
        <p:blipFill>
          <a:blip r:embed="rId1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ПЕТИП 4"/>
          <p:cNvPicPr/>
          <p:nvPr/>
        </p:nvPicPr>
        <p:blipFill>
          <a:blip r:embed="rId2"/>
          <a:stretch/>
        </p:blipFill>
        <p:spPr>
          <a:xfrm>
            <a:off x="0" y="2414520"/>
            <a:ext cx="9144000" cy="3894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ПЕТИП 1"/>
          <p:cNvPicPr/>
          <p:nvPr/>
        </p:nvPicPr>
        <p:blipFill>
          <a:blip r:embed="rId3"/>
          <a:stretch/>
        </p:blipFill>
        <p:spPr>
          <a:xfrm>
            <a:off x="0" y="6281640"/>
            <a:ext cx="9144000" cy="57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ballet-background-11"/>
          <p:cNvPicPr/>
          <p:nvPr/>
        </p:nvPicPr>
        <p:blipFill>
          <a:blip r:embed="rId4"/>
          <a:stretch/>
        </p:blipFill>
        <p:spPr>
          <a:xfrm>
            <a:off x="7077240" y="3645000"/>
            <a:ext cx="1798560" cy="5479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Карп П.М. Младшая муза"/>
          <p:cNvPicPr/>
          <p:nvPr/>
        </p:nvPicPr>
        <p:blipFill>
          <a:blip r:embed="rId5"/>
          <a:stretch/>
        </p:blipFill>
        <p:spPr>
          <a:xfrm>
            <a:off x="179280" y="1916280"/>
            <a:ext cx="1800360" cy="2376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3" name="TextBox 10"/>
          <p:cNvSpPr/>
          <p:nvPr/>
        </p:nvSpPr>
        <p:spPr>
          <a:xfrm>
            <a:off x="2556000" y="1341360"/>
            <a:ext cx="64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Стремление к прекрасному, не всегда даже осознанное, живет в каждом из нас. А вот умению  видеть и вникать в красоту произведений искусства необходимо учиться. Понимать искусство танца – балет, поможет книга П. Карпа «Младшая муза». Издание знакомит читателей с историей развития балетного искусства, рассказывает о том, как создается  балетный спектакль и кто принимает в этом непосредственное участи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179280" y="450864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Карп, П. Младшая муза /П. Карп. – М., 1997. – 190 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2411280" y="3645000"/>
            <a:ext cx="50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Значительное место в книге отведено отечественному балету, его крупнейшим хореографам и знаменитым мастерам сцены, снискавшим славу как у нас в стране, так и за рубежом. Одним из представителей этой славной плеяды является М. Петипа, о жизни и работе которого в петербургском театре балета рассказывает эта кни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ПЕТИП 2"/>
          <p:cNvPicPr/>
          <p:nvPr/>
        </p:nvPicPr>
        <p:blipFill>
          <a:blip r:embed="rId1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ПЕТИП 4"/>
          <p:cNvPicPr/>
          <p:nvPr/>
        </p:nvPicPr>
        <p:blipFill>
          <a:blip r:embed="rId2"/>
          <a:stretch/>
        </p:blipFill>
        <p:spPr>
          <a:xfrm>
            <a:off x="0" y="2414520"/>
            <a:ext cx="9144000" cy="3894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ПЕТИП 1"/>
          <p:cNvPicPr/>
          <p:nvPr/>
        </p:nvPicPr>
        <p:blipFill>
          <a:blip r:embed="rId3"/>
          <a:stretch/>
        </p:blipFill>
        <p:spPr>
          <a:xfrm>
            <a:off x="0" y="6281640"/>
            <a:ext cx="9144000" cy="57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gigabaza.ru/images/92/183814/m26b02a94.jpg"/>
          <p:cNvPicPr/>
          <p:nvPr/>
        </p:nvPicPr>
        <p:blipFill>
          <a:blip r:embed="rId4"/>
          <a:stretch/>
        </p:blipFill>
        <p:spPr>
          <a:xfrm>
            <a:off x="179280" y="1773360"/>
            <a:ext cx="174168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2" name="TextBox 14"/>
          <p:cNvSpPr/>
          <p:nvPr/>
        </p:nvSpPr>
        <p:spPr>
          <a:xfrm>
            <a:off x="2411280" y="119700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Цель искусства танца – это воплощение человеческих мыслей и чувств. Профессия балетмейстера – сложное и кропотливое дело. Об этом и многом другом рассказывает В. Красовская в книге «Русский балетный театр начала 20-го века. К рубежу 20-го века история русского балета являла, в целом, картину восхождения. Вершиной процесса стали балеты П.Чайковского и А. Глазунова, созданные в содружестве с Мариусом Петип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Box 15"/>
          <p:cNvSpPr/>
          <p:nvPr/>
        </p:nvSpPr>
        <p:spPr>
          <a:xfrm>
            <a:off x="179280" y="4508640"/>
            <a:ext cx="194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Красовская, В. Русский балетный театр начала </a:t>
            </a:r>
            <a:r>
              <a:rPr b="0" lang="en-US" sz="14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XX </a:t>
            </a:r>
            <a:r>
              <a:rPr b="0" lang="ru-RU" sz="14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века. Хореографы /В. Красовская. – Л., 1971. – 456 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2411280" y="350028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Именно Чайковский лучше других музыкантов увидел и понял возможности балетного театра как музыкального.  Оба композитора  признавали правила хореографии М. Петипа, одухотворяя своим искусством содержание балета, делая мудрее и богаче его гуманистические иде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11" descr="D:\Users\blv\Pictures\1420378464_ycxnrh9ibfdki1s1.jpg"/>
          <p:cNvPicPr/>
          <p:nvPr/>
        </p:nvPicPr>
        <p:blipFill>
          <a:blip r:embed="rId5"/>
          <a:stretch/>
        </p:blipFill>
        <p:spPr>
          <a:xfrm>
            <a:off x="7020000" y="5013360"/>
            <a:ext cx="1979640" cy="11523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3"/>
          <p:cNvSpPr/>
          <p:nvPr/>
        </p:nvSpPr>
        <p:spPr>
          <a:xfrm>
            <a:off x="2411280" y="494172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В издании приводятся интересные факты биографии знаменитого хореографа, фотографии балетных сцен в его постановк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ПЕТИП 2"/>
          <p:cNvPicPr/>
          <p:nvPr/>
        </p:nvPicPr>
        <p:blipFill>
          <a:blip r:embed="rId1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ПЕТИП 4"/>
          <p:cNvPicPr/>
          <p:nvPr/>
        </p:nvPicPr>
        <p:blipFill>
          <a:blip r:embed="rId2"/>
          <a:stretch/>
        </p:blipFill>
        <p:spPr>
          <a:xfrm>
            <a:off x="0" y="2414520"/>
            <a:ext cx="9144000" cy="3894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ПЕТИП 1"/>
          <p:cNvPicPr/>
          <p:nvPr/>
        </p:nvPicPr>
        <p:blipFill>
          <a:blip r:embed="rId3"/>
          <a:stretch/>
        </p:blipFill>
        <p:spPr>
          <a:xfrm>
            <a:off x="0" y="6281640"/>
            <a:ext cx="9144000" cy="57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static.ozone.ru/multimedia/1013591989.jpg"/>
          <p:cNvPicPr/>
          <p:nvPr/>
        </p:nvPicPr>
        <p:blipFill>
          <a:blip r:embed="rId4"/>
          <a:stretch/>
        </p:blipFill>
        <p:spPr>
          <a:xfrm>
            <a:off x="250920" y="1773360"/>
            <a:ext cx="1628640" cy="2735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3" name="TextBox 8"/>
          <p:cNvSpPr/>
          <p:nvPr/>
        </p:nvSpPr>
        <p:spPr>
          <a:xfrm>
            <a:off x="179280" y="4653000"/>
            <a:ext cx="194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Петров, О.А. Русская балетная критика второй половины </a:t>
            </a:r>
            <a:r>
              <a:rPr b="0" lang="en-US" sz="14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XIX</a:t>
            </a:r>
            <a:r>
              <a:rPr b="0" lang="ru-RU" sz="14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  века. Петербург / О.А. Петров. – Екатеринбург, 1995. – 416 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2987640" y="24210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Время неумолимо к тому, где хранится память ушедшей культуры, - старым архивам, редким книгам. Для историков балета, его критиков и просто любителей источниковедческая часть книги должна быть, несомненно, привлекательна. В ней – дух времени, атмосфера балетного театра, жизнь сцены и зрительного зала ушедшей эпох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Box 15"/>
          <p:cNvSpPr/>
          <p:nvPr/>
        </p:nvSpPr>
        <p:spPr>
          <a:xfrm>
            <a:off x="3419640" y="1052640"/>
            <a:ext cx="53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книга О.А. Петрова «Русская балетная критика второй половины </a:t>
            </a:r>
            <a:r>
              <a:rPr b="0" lang="en-US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XIX</a:t>
            </a: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 века. Петербург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Box 16"/>
          <p:cNvSpPr/>
          <p:nvPr/>
        </p:nvSpPr>
        <p:spPr>
          <a:xfrm>
            <a:off x="2627280" y="4508640"/>
            <a:ext cx="41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Из книги читатель узнает о двух изданиях, которые освещали жизнь петербургского балета почти каждый день: «Санкт- Петербургские ведомости» и «Петербургская газета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10" descr="D:\Users\blv\Pictures\i8W4C8HAH1.jpg"/>
          <p:cNvPicPr/>
          <p:nvPr/>
        </p:nvPicPr>
        <p:blipFill>
          <a:blip r:embed="rId5"/>
          <a:stretch/>
        </p:blipFill>
        <p:spPr>
          <a:xfrm>
            <a:off x="6804000" y="4508640"/>
            <a:ext cx="2232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ПЕТИП 2"/>
          <p:cNvPicPr/>
          <p:nvPr/>
        </p:nvPicPr>
        <p:blipFill>
          <a:blip r:embed="rId1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ПЕТИП 4"/>
          <p:cNvPicPr/>
          <p:nvPr/>
        </p:nvPicPr>
        <p:blipFill>
          <a:blip r:embed="rId2"/>
          <a:stretch/>
        </p:blipFill>
        <p:spPr>
          <a:xfrm>
            <a:off x="0" y="2414520"/>
            <a:ext cx="9144000" cy="3894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ПЕТИП 1"/>
          <p:cNvPicPr/>
          <p:nvPr/>
        </p:nvPicPr>
        <p:blipFill>
          <a:blip r:embed="rId3"/>
          <a:stretch/>
        </p:blipFill>
        <p:spPr>
          <a:xfrm>
            <a:off x="0" y="628164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7"/>
          <p:cNvSpPr/>
          <p:nvPr/>
        </p:nvSpPr>
        <p:spPr>
          <a:xfrm>
            <a:off x="168120" y="134136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Эти два издания «Санкт- Петербургские ведомости» и «Петербургская газета», давали наиболее исчерпывающую информацию о жизни балета во всех его мелочах и текущих подробностях. М. И. Петипа и Л. И. Иванов, «Спящая красавица» и «Лебединое озеро», «Раймонда» и «Щелкунчик» - без них невозможно представить русскую культурную жизнь.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Па-де-де принцессы Флорин и Синей Птицы..."/>
          <p:cNvPicPr/>
          <p:nvPr/>
        </p:nvPicPr>
        <p:blipFill>
          <a:blip r:embed="rId4"/>
          <a:stretch/>
        </p:blipFill>
        <p:spPr>
          <a:xfrm>
            <a:off x="24385680" y="-26007840"/>
            <a:ext cx="4572000" cy="3228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Па-де-де принцессы Флорин и Синей Птицы..."/>
          <p:cNvPicPr/>
          <p:nvPr/>
        </p:nvPicPr>
        <p:blipFill>
          <a:blip r:embed="rId5"/>
          <a:stretch/>
        </p:blipFill>
        <p:spPr>
          <a:xfrm>
            <a:off x="24385680" y="-26007840"/>
            <a:ext cx="4572000" cy="3228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D:\Users\blv\Pictures\петип 1.jpg"/>
          <p:cNvPicPr/>
          <p:nvPr/>
        </p:nvPicPr>
        <p:blipFill>
          <a:blip r:embed="rId6"/>
          <a:stretch/>
        </p:blipFill>
        <p:spPr>
          <a:xfrm>
            <a:off x="447840" y="4351320"/>
            <a:ext cx="3276360" cy="2303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7" name="Picture 15" descr="D:\Users\blv\Pictures\петип 4.jpg"/>
          <p:cNvPicPr/>
          <p:nvPr/>
        </p:nvPicPr>
        <p:blipFill>
          <a:blip r:embed="rId7"/>
          <a:stretch/>
        </p:blipFill>
        <p:spPr>
          <a:xfrm>
            <a:off x="4584600" y="517680"/>
            <a:ext cx="3857760" cy="2792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" descr="D:\Users\blv\Pictures\петип 3.jpg"/>
          <p:cNvPicPr/>
          <p:nvPr/>
        </p:nvPicPr>
        <p:blipFill>
          <a:blip r:embed="rId8"/>
          <a:stretch/>
        </p:blipFill>
        <p:spPr>
          <a:xfrm>
            <a:off x="4356000" y="3865680"/>
            <a:ext cx="1490760" cy="2371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9" name="Picture 17" descr="D:\Users\blv\Pictures\пети 5.jpg"/>
          <p:cNvPicPr/>
          <p:nvPr/>
        </p:nvPicPr>
        <p:blipFill>
          <a:blip r:embed="rId9"/>
          <a:stretch/>
        </p:blipFill>
        <p:spPr>
          <a:xfrm>
            <a:off x="6621480" y="3357720"/>
            <a:ext cx="2230560" cy="287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4" descr="ПЕТИП 2"/>
          <p:cNvPicPr/>
          <p:nvPr/>
        </p:nvPicPr>
        <p:blipFill>
          <a:blip r:embed="rId1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ПЕТИП 4"/>
          <p:cNvPicPr/>
          <p:nvPr/>
        </p:nvPicPr>
        <p:blipFill>
          <a:blip r:embed="rId2"/>
          <a:stretch/>
        </p:blipFill>
        <p:spPr>
          <a:xfrm>
            <a:off x="0" y="2414520"/>
            <a:ext cx="9144000" cy="3894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ПЕТИП 1"/>
          <p:cNvPicPr/>
          <p:nvPr/>
        </p:nvPicPr>
        <p:blipFill>
          <a:blip r:embed="rId3"/>
          <a:stretch/>
        </p:blipFill>
        <p:spPr>
          <a:xfrm>
            <a:off x="0" y="6281640"/>
            <a:ext cx="914400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ballet-background-11"/>
          <p:cNvPicPr/>
          <p:nvPr/>
        </p:nvPicPr>
        <p:blipFill>
          <a:blip r:embed="rId4"/>
          <a:stretch/>
        </p:blipFill>
        <p:spPr>
          <a:xfrm>
            <a:off x="7077240" y="3645000"/>
            <a:ext cx="1798560" cy="54799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5"/>
          <p:cNvSpPr/>
          <p:nvPr/>
        </p:nvSpPr>
        <p:spPr>
          <a:xfrm>
            <a:off x="3022560" y="1125360"/>
            <a:ext cx="612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Одной из страниц русского балетного искусства посвящена книга  Ж.-П. Пастори. Великое здание, выстроенное Петипа, Ивановым и Чайковским, оставалось мало кому известным за пределами Петербурга и Москвы. Пропагандист русского искусств Сергей Дягилев  разорвал замкнутый круг, и началась новая история русского и мирового балета. В издании рассказывается о коротком, но насыщенном периоде жизни Сергея Дягилева и его артистов в Швейцарии во время Первой мировой войн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3" descr="Жан-Пьер Пастори - Ренессанс Русского балета"/>
          <p:cNvPicPr/>
          <p:nvPr/>
        </p:nvPicPr>
        <p:blipFill>
          <a:blip r:embed="rId5"/>
          <a:stretch/>
        </p:blipFill>
        <p:spPr>
          <a:xfrm>
            <a:off x="250920" y="1773360"/>
            <a:ext cx="1938240" cy="2881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7"/>
          <p:cNvSpPr/>
          <p:nvPr/>
        </p:nvSpPr>
        <p:spPr>
          <a:xfrm>
            <a:off x="250920" y="4869000"/>
            <a:ext cx="194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Пастори, Ж.-П. Ренессанс русского балета / Ж.-П. Пастори. – М., 2014. – 152 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2411280" y="3933720"/>
            <a:ext cx="51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Именно в нейтральной Швейцарии Дягилев обрел новую цель – собрать всех артистов по всей Европе, возродив самую мощную и прекрасную авантюру современности – «Дягилевские Русские балеты» для гастролей в Америке. Издание будет интересно не только почитателям балета, но и самому широкому кругу читател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ПЕТИП 2"/>
          <p:cNvPicPr/>
          <p:nvPr/>
        </p:nvPicPr>
        <p:blipFill>
          <a:blip r:embed="rId1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ПЕТИП 4"/>
          <p:cNvPicPr/>
          <p:nvPr/>
        </p:nvPicPr>
        <p:blipFill>
          <a:blip r:embed="rId2"/>
          <a:stretch/>
        </p:blipFill>
        <p:spPr>
          <a:xfrm>
            <a:off x="0" y="2414520"/>
            <a:ext cx="9144000" cy="3894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ПЕТИП 1"/>
          <p:cNvPicPr/>
          <p:nvPr/>
        </p:nvPicPr>
        <p:blipFill>
          <a:blip r:embed="rId3"/>
          <a:stretch/>
        </p:blipFill>
        <p:spPr>
          <a:xfrm>
            <a:off x="0" y="6281640"/>
            <a:ext cx="9144000" cy="5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D:\Users\blv\Pictures\5909-thickbox_default2.jpg"/>
          <p:cNvPicPr/>
          <p:nvPr/>
        </p:nvPicPr>
        <p:blipFill>
          <a:blip r:embed="rId4"/>
          <a:stretch/>
        </p:blipFill>
        <p:spPr>
          <a:xfrm>
            <a:off x="250920" y="1844640"/>
            <a:ext cx="2016000" cy="27907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0"/>
          <p:cNvSpPr/>
          <p:nvPr/>
        </p:nvSpPr>
        <p:spPr>
          <a:xfrm>
            <a:off x="250920" y="4941720"/>
            <a:ext cx="194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Русский балет: энциклопедия / редкол.: Е.П. Белова и др.. – М., 1997. – 632 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Box 12"/>
          <p:cNvSpPr/>
          <p:nvPr/>
        </p:nvSpPr>
        <p:spPr>
          <a:xfrm>
            <a:off x="2843280" y="1125360"/>
            <a:ext cx="63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Энциклопедия  «Русский балет» подготовлено крупнейшими специалистами русского и мирового балетоведения. Сотни иллюстраций и 1500 статей рассказывают о знаменитых танцовщиках, балетмейстерах, педагогах. В издание включена информация о многих фактах в истории балета, спектаклях, важных явлениях в жизни  балетного театр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2627280" y="3429000"/>
            <a:ext cx="64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Открывается книга большой статьей о русском балете, истории его возникновения и динамике его развития. Исторически сложилось так, что именно русскому балету предстояло возродить балетное искусство в новом качестве. Балетмейстер М. Петипа продолжил процесс обогащения танца, благодаря ему сложилась эстетика «большого» или академического бале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 Unicode MS"/>
                <a:ea typeface="Arial Unicode MS"/>
              </a:rPr>
              <a:t>Книга будет интересна всем, увлекающимся балетным искусств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8T12:21:02Z</dcterms:created>
  <dc:creator>blv</dc:creator>
  <dc:description/>
  <dc:language>en-US</dc:language>
  <cp:lastModifiedBy>Сергей Р.В.</cp:lastModifiedBy>
  <dcterms:modified xsi:type="dcterms:W3CDTF">2018-02-26T11:36:37Z</dcterms:modified>
  <cp:revision>8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