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3D8C-DECA-4343-9A06-E44F3A935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3C7-FC39-433C-BE3A-AC188CE76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E821-60C8-413A-8869-AF4EBADAA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588E-10F1-48D8-8225-81F01CC81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54E-FE6E-4A28-9684-63E94E24B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B7BB-6601-4E0E-9817-930260470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39AF-ACFA-4408-9375-3CABB1AB31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A467-8FE0-432D-9EA9-97D790284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6F4A-0E12-435E-9DF8-6E8EBA62B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896-5B91-4BC2-8132-B3BA1F3A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C3A-C1E6-4C81-8C42-93CECD3F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D1B1-07D8-4D5D-8B03-8FDFBAAB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13A-A0E0-432E-884D-A74C72EF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E4C-B055-4120-AA62-0F438AC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548-C38C-416B-BBCF-C010E221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D54-66B7-471F-AE9D-874B4584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766-5D10-40C8-AA31-18F56D97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117-975D-4434-8080-01625BB1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60E-2548-4AA3-B164-4F114D7F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287-D0D9-4E40-9E0A-0203E6AF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B52-B71A-4B88-A6A9-A928CC29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2988-DB92-4877-BC9E-427C30BBE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6"/>
          <p:cNvSpPr/>
          <p:nvPr/>
        </p:nvSpPr>
        <p:spPr>
          <a:xfrm>
            <a:off x="4284720" y="527040"/>
            <a:ext cx="5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7"/>
          <p:cNvSpPr/>
          <p:nvPr/>
        </p:nvSpPr>
        <p:spPr>
          <a:xfrm>
            <a:off x="4284720" y="527040"/>
            <a:ext cx="5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8"/>
          <p:cNvSpPr/>
          <p:nvPr/>
        </p:nvSpPr>
        <p:spPr>
          <a:xfrm>
            <a:off x="4284720" y="527040"/>
            <a:ext cx="5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9"/>
          <p:cNvSpPr/>
          <p:nvPr/>
        </p:nvSpPr>
        <p:spPr>
          <a:xfrm>
            <a:off x="4284720" y="527040"/>
            <a:ext cx="5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1" descr="1510039_orden-svyatogo-georgiya-pobedonosca11"/>
          <p:cNvPicPr/>
          <p:nvPr/>
        </p:nvPicPr>
        <p:blipFill>
          <a:blip r:embed="rId1"/>
          <a:stretch/>
        </p:blipFill>
        <p:spPr>
          <a:xfrm>
            <a:off x="17221320" y="1752480"/>
            <a:ext cx="533160" cy="17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0" descr="сканирование33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1" descr="сканирование31"/>
          <p:cNvPicPr/>
          <p:nvPr/>
        </p:nvPicPr>
        <p:blipFill>
          <a:blip r:embed="rId3"/>
          <a:stretch/>
        </p:blipFill>
        <p:spPr>
          <a:xfrm>
            <a:off x="3809880" y="3048120"/>
            <a:ext cx="1524240" cy="3581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«Земли российской патриоты»</a:t>
            </a:r>
            <a:br>
              <a:rPr sz="54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 Дню Героев Оте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9"/>
          <p:cNvSpPr/>
          <p:nvPr/>
        </p:nvSpPr>
        <p:spPr>
          <a:xfrm>
            <a:off x="419040" y="30492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одарская краевая универсальная научная библиотека         им. А.С. Пуш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 городского абон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0"/>
          <p:cNvSpPr/>
          <p:nvPr/>
        </p:nvSpPr>
        <p:spPr>
          <a:xfrm>
            <a:off x="457200" y="365760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ртуальная книжная выст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1"/>
          <p:cNvSpPr/>
          <p:nvPr/>
        </p:nvSpPr>
        <p:spPr>
          <a:xfrm>
            <a:off x="6629400" y="55627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Красно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сканирование33"/>
          <p:cNvPicPr/>
          <p:nvPr/>
        </p:nvPicPr>
        <p:blipFill>
          <a:blip r:embed="rId1"/>
          <a:stretch/>
        </p:blipFill>
        <p:spPr>
          <a:xfrm>
            <a:off x="0" y="0"/>
            <a:ext cx="9182160" cy="6918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4920" y="2286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28600" y="3200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8600" y="228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971800" y="304920"/>
            <a:ext cx="59436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хтомный биографический словарь «Герои Советского Союза» – своеобразный памятник легендарным подвигам советских людей. Он рассказывает о мужестве обретшего свободу народа,   о героическом прошлом нашей страны, о бесстрашии  и самоотверженности воинов армии и флота, партизан и подпольщиков, о священной для нас Великой Отечественной войне, о подвигах людей в послевоенные годы. Читая краткие биографии, мы как бы соприкасаемся с живой, конкретной историей Отчизны, ее наиболее славными событиями,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сканирование17"/>
          <p:cNvPicPr/>
          <p:nvPr/>
        </p:nvPicPr>
        <p:blipFill>
          <a:blip r:embed="rId2"/>
          <a:stretch/>
        </p:blipFill>
        <p:spPr>
          <a:xfrm>
            <a:off x="152280" y="304920"/>
            <a:ext cx="144792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Text Box 11"/>
          <p:cNvSpPr/>
          <p:nvPr/>
        </p:nvSpPr>
        <p:spPr>
          <a:xfrm>
            <a:off x="457200" y="3657600"/>
            <a:ext cx="16765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рои Советского Союза : крат. биограф. словарь в 2 т. / под ред. И.Н. Шкадова. – Москва: Воениздат, 1987.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сканирование17"/>
          <p:cNvPicPr/>
          <p:nvPr/>
        </p:nvPicPr>
        <p:blipFill>
          <a:blip r:embed="rId3"/>
          <a:stretch/>
        </p:blipFill>
        <p:spPr>
          <a:xfrm>
            <a:off x="1143000" y="990720"/>
            <a:ext cx="152388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Text Box 13"/>
          <p:cNvSpPr/>
          <p:nvPr/>
        </p:nvSpPr>
        <p:spPr>
          <a:xfrm>
            <a:off x="30492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йдут столетия, сменятся поколения, но вечной будет память о Героях  и вечной будет их сл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2" descr="1510039_orden-svyatogo-georgiya-pobedonosca11"/>
          <p:cNvPicPr/>
          <p:nvPr/>
        </p:nvPicPr>
        <p:blipFill>
          <a:blip r:embed="rId4"/>
          <a:stretch/>
        </p:blipFill>
        <p:spPr>
          <a:xfrm>
            <a:off x="8153280" y="3733920"/>
            <a:ext cx="533520" cy="172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1510039_orden-svyatogo-georgiya-pobedonosca11"/>
          <p:cNvPicPr/>
          <p:nvPr/>
        </p:nvPicPr>
        <p:blipFill>
          <a:blip r:embed="rId5"/>
          <a:stretch/>
        </p:blipFill>
        <p:spPr>
          <a:xfrm>
            <a:off x="8458200" y="4952880"/>
            <a:ext cx="533520" cy="1727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2438280" y="3489480"/>
            <a:ext cx="563904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дня учреждения высшей степени отличия Родины прошли десятилетия. Время показало, что подвиги Героев Советского Союза имеют огромную притягательную силу, приобретая с годами еще большую значимость. Они запечатлены в многочисленных произведениях литературы, музыки, сценического и изобразительного искусства, в скромных обелисках и величественных мемориа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сканирование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04920" y="2286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28600" y="3200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28600" y="228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90440" y="228600"/>
            <a:ext cx="8763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92 году с распадом Советского Союза звание герой Советского Союза сменилось другим – Герой Российской Федерации. Герою РФ вручается знак особого отличия – медаль «Золотая Звезд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сканирование6"/>
          <p:cNvPicPr/>
          <p:nvPr/>
        </p:nvPicPr>
        <p:blipFill>
          <a:blip r:embed="rId2"/>
          <a:stretch/>
        </p:blipFill>
        <p:spPr>
          <a:xfrm>
            <a:off x="7162920" y="1639800"/>
            <a:ext cx="1676160" cy="295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5" name="Text Box 11"/>
          <p:cNvSpPr/>
          <p:nvPr/>
        </p:nvSpPr>
        <p:spPr>
          <a:xfrm>
            <a:off x="7315200" y="4800600"/>
            <a:ext cx="167652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а гордость и наше наследие, слава той, незабытой страны… - Кранодар :  Диапазон-В, 2011. – 160с.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676520" y="1490760"/>
            <a:ext cx="5410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следующие годы плеяда Героев России пополнилась покорителями неба и космоса. Выполнение интернационального долга, защита конституционного порядка, миротворческие операции, защита от террористических угроз привели к рождению нового поколения Геро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slide-21"/>
          <p:cNvPicPr/>
          <p:nvPr/>
        </p:nvPicPr>
        <p:blipFill>
          <a:blip r:embed="rId3"/>
          <a:stretch/>
        </p:blipFill>
        <p:spPr>
          <a:xfrm>
            <a:off x="380880" y="1219320"/>
            <a:ext cx="914400" cy="14983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1"/>
          <p:cNvSpPr/>
          <p:nvPr/>
        </p:nvSpPr>
        <p:spPr>
          <a:xfrm>
            <a:off x="152280" y="2895480"/>
            <a:ext cx="1371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ая звезда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152280" y="3657600"/>
            <a:ext cx="678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ая Россия в своей ратной летописи насчитывает около 600 человек, удостоенных звания Герой Российской Федерации. Среди этих людей есть и те, кто до сегодняшнего дня продолжает служить в рядах Вооруженных Сил России. Лучшим сыновьям и дочерям Кубани, удостоенным за мужество, отвагу и героизм высших наград Родины, посвящена книга «Наша гордость и наше наследие, слава той, незабытой страны…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сканирование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04920" y="2286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28600" y="3200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28600" y="228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52280" y="228600"/>
            <a:ext cx="8763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овой России в наградную систему вернулись славные награды Отечества – орден Святого Георгия Победоносца и Георгиевский крест. Соответствующий указ Президент РФ подписал в марте 1992 года, но только в августе 2000 года ордену Святого Георгия был возвращен статус высшей военной награды, 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сканирование00011"/>
          <p:cNvPicPr/>
          <p:nvPr/>
        </p:nvPicPr>
        <p:blipFill>
          <a:blip r:embed="rId2"/>
          <a:stretch/>
        </p:blipFill>
        <p:spPr>
          <a:xfrm>
            <a:off x="228600" y="1600200"/>
            <a:ext cx="1809720" cy="289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7" name="Text Box 10"/>
          <p:cNvSpPr/>
          <p:nvPr/>
        </p:nvSpPr>
        <p:spPr>
          <a:xfrm>
            <a:off x="2209680" y="152388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286000" y="1523880"/>
            <a:ext cx="6553080" cy="23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7 году по инициативе парламентариев был возрожден и праздник – День Героев Отечества. Визуально орден полностью совпадает с тем, что существовал при Екатер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заслуженного учителя Кубани, историка Ю.М. Бодяева «Под лентой цвета дыма и пламени» знакомит читателей с историей георгиевских наград и подвигами отдельных героев и воинских соеди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28600" y="4724280"/>
            <a:ext cx="16765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дяев Ю.М. Под лентой цвета дыма и пламени. – Краснодар : Перспективы образования, 2017. – 256с.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1905120" y="59436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2" descr="1510039_orden-svyatogo-georgiya-pobedonosca11"/>
          <p:cNvPicPr/>
          <p:nvPr/>
        </p:nvPicPr>
        <p:blipFill>
          <a:blip r:embed="rId3"/>
          <a:stretch/>
        </p:blipFill>
        <p:spPr>
          <a:xfrm>
            <a:off x="8153280" y="3733920"/>
            <a:ext cx="533520" cy="172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1" descr="1510039_orden-svyatogo-georgiya-pobedonosca11"/>
          <p:cNvPicPr/>
          <p:nvPr/>
        </p:nvPicPr>
        <p:blipFill>
          <a:blip r:embed="rId4"/>
          <a:stretch/>
        </p:blipFill>
        <p:spPr>
          <a:xfrm>
            <a:off x="8458200" y="4952880"/>
            <a:ext cx="533520" cy="1727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8"/>
          <p:cNvSpPr/>
          <p:nvPr/>
        </p:nvSpPr>
        <p:spPr>
          <a:xfrm>
            <a:off x="2286000" y="40384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2209680" y="3962520"/>
            <a:ext cx="58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декабря 2019 года исполнится 250 лет со дня учреждения ордена Святого Георгия Победоносца и появления на свет черно-оранжевой ленты, которая связала воедино все подвиги многих поколений россиян: от солдат русско-турецких вой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 до тех, кто сражался с международным терроризмом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. Она символизирует единство и подвиг народа, который умел побеждать всем смертям и врагам наз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сканирование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2286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28600" y="3200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ргиевские награды и георгиевские кавалеры – золотой фонд русской воинской славы, достояние всех поколений. Это наше прошлое, которым мы безмерно гордимся. Это наше будущее, которое дает нам возможность воспитывать новые поколения на подвигах георгиевских кавал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143000" y="137160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«Все тленно, все преходяще.                                                          Только доблесть никогда не исчезнет – она бессмертн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38098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ажаемые читате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ем вас в отделе городского абонем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9-30 до 19 ча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ной – пятница и последнее число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фон 8(861) 268-52-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2" descr="1510039_orden-svyatogo-georgiya-pobedonosca11"/>
          <p:cNvPicPr/>
          <p:nvPr/>
        </p:nvPicPr>
        <p:blipFill>
          <a:blip r:embed="rId2"/>
          <a:stretch/>
        </p:blipFill>
        <p:spPr>
          <a:xfrm>
            <a:off x="2844720" y="2438280"/>
            <a:ext cx="1727280" cy="533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1510039_orden-svyatogo-georgiya-pobedonosca11"/>
          <p:cNvPicPr/>
          <p:nvPr/>
        </p:nvPicPr>
        <p:blipFill>
          <a:blip r:embed="rId3"/>
          <a:stretch/>
        </p:blipFill>
        <p:spPr>
          <a:xfrm>
            <a:off x="4572000" y="2895480"/>
            <a:ext cx="17272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сканирование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510039_orden-svyatogo-georgiya-pobedonosca11"/>
          <p:cNvPicPr/>
          <p:nvPr/>
        </p:nvPicPr>
        <p:blipFill>
          <a:blip r:embed="rId2"/>
          <a:stretch/>
        </p:blipFill>
        <p:spPr>
          <a:xfrm>
            <a:off x="152280" y="152280"/>
            <a:ext cx="533520" cy="17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1510039_orden-svyatogo-georgiya-pobedonosca11"/>
          <p:cNvPicPr/>
          <p:nvPr/>
        </p:nvPicPr>
        <p:blipFill>
          <a:blip r:embed="rId3"/>
          <a:stretch/>
        </p:blipFill>
        <p:spPr>
          <a:xfrm>
            <a:off x="380880" y="1701720"/>
            <a:ext cx="533520" cy="1727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066680" y="2286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ссии есть даты, священные для каждого жителя нашей страны. Их называют памятными. Они установлены официально и призваны сохранять память о самых славных, самых важных событиях нашего Оте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таких дат – День Героев Отечества. Эта памятная дата отмечается в нашей стране ежегодно 9 декабря.  Свою историю праздник ведет с ноября 1769 года, когда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редила один из самых важных и почетных орденов в истории страны: орден Свят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1143000" y="2590920"/>
            <a:ext cx="525780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мученика и Победоносца Геор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этого святого для воинской награды было взято не случайно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52280" y="3581280"/>
            <a:ext cx="60962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ргия Победоносца отличает  особая избранность, явственно отмеченная Богом и распознанная людьми -  и теми, кто жил рядом и в одно время с ним, и их далекими потом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ревним сказаниям, Георгий происходил из  знатного римского рода и занимал высокую военную должность. Когда же началось гонение императора Диоклетиана на христиан, он покинул войско и стал проповедником христианства, за что  в 303 году после восьмидневных тяжких испытаний был обезглав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сканирование0001"/>
          <p:cNvPicPr/>
          <p:nvPr/>
        </p:nvPicPr>
        <p:blipFill>
          <a:blip r:embed="rId4"/>
          <a:stretch/>
        </p:blipFill>
        <p:spPr>
          <a:xfrm>
            <a:off x="7086600" y="3657600"/>
            <a:ext cx="190512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сканирование0002"/>
          <p:cNvPicPr/>
          <p:nvPr/>
        </p:nvPicPr>
        <p:blipFill>
          <a:blip r:embed="rId5"/>
          <a:stretch/>
        </p:blipFill>
        <p:spPr>
          <a:xfrm>
            <a:off x="6324480" y="2666880"/>
            <a:ext cx="1905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сканирование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743200" y="228600"/>
            <a:ext cx="6400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казни стал днем поминовения этого мужественного человека, позднее признанного церковью святым великомучеником. С принятием Русью христианства пришел и культ святого Георгия, который воспринимался как защитник Русской земли, приносящий победу ее воинам. В древнерусской литературе есть сказание 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«Чудо Георгия о змие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ревняя повесть представляет собой отдельный легендарный эпизод из биографии этого мученика и рассказывает о том, как святой воин Георгий спас царскую дочь от чудовищного змея-людоеда, усмирив его при помощи креста и молитвы, а затем пронзив копь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сканирование2"/>
          <p:cNvPicPr/>
          <p:nvPr/>
        </p:nvPicPr>
        <p:blipFill>
          <a:blip r:embed="rId2"/>
          <a:stretch/>
        </p:blipFill>
        <p:spPr>
          <a:xfrm>
            <a:off x="5410080" y="3886200"/>
            <a:ext cx="175284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16" descr="72487e6d0cbec8f62a5409d7a8596b2d1"/>
          <p:cNvPicPr/>
          <p:nvPr/>
        </p:nvPicPr>
        <p:blipFill>
          <a:blip r:embed="rId3"/>
          <a:stretch/>
        </p:blipFill>
        <p:spPr>
          <a:xfrm>
            <a:off x="204840" y="228600"/>
            <a:ext cx="2462040" cy="3581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7"/>
          <p:cNvSpPr/>
          <p:nvPr/>
        </p:nvSpPr>
        <p:spPr>
          <a:xfrm>
            <a:off x="0" y="3886200"/>
            <a:ext cx="25146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до Георгия о зм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городская ик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ч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7315200" y="3886200"/>
            <a:ext cx="167652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до Георгия о змие: чудо со змеем, бывшее со святым великомучеником Георгием // Памятники литературы Древней Рус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. – Москва: Худож. лит., 1981. – С. 520-5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52280" y="4572000"/>
            <a:ext cx="5334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ый перевод повести был сделан с греческого языка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, а уже в начал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возникла русская переработка текста. От первоначального текста она отличается лаконичностью, характерной для оригинальных древнерусских произведений, яркой образностью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сканирование33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228600"/>
            <a:ext cx="8686800" cy="2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ный орден Святого великомученика и Победоносца Георгия, учрежденный Екатери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является высшей российской наградой за военные заслуги, проявленные непосредственно на поле с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тличается от всех других российских орденов строгостью и лаконичностью, подчеркивающими его ратное происхождение и предназначение. Это белый эмалевый крест с золотой каймой, посред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 на лицевой сторо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зображение святого Георгия, поражающего копьем змия, а на оборотной – вензель святого.  Звезда первой и второй степени - золотая, четырехугольная, с вензелем святого в центр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Копия img311"/>
          <p:cNvPicPr/>
          <p:nvPr/>
        </p:nvPicPr>
        <p:blipFill>
          <a:blip r:embed="rId2"/>
          <a:stretch/>
        </p:blipFill>
        <p:spPr>
          <a:xfrm>
            <a:off x="2971800" y="2895480"/>
            <a:ext cx="1143000" cy="1752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img3111"/>
          <p:cNvPicPr/>
          <p:nvPr/>
        </p:nvPicPr>
        <p:blipFill>
          <a:blip r:embed="rId3"/>
          <a:stretch/>
        </p:blipFill>
        <p:spPr>
          <a:xfrm>
            <a:off x="4191120" y="2895480"/>
            <a:ext cx="472428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4191120" y="4572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везда к ордену      Знак 2-й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к 3-й       Знак 4-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. Георгия              степени         степени        степ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28600" y="5638680"/>
            <a:ext cx="8686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обладатели ордена Святого  великомученика и Победоносца Георгия в определенном смысле заслуживали такого же почтения, как и лица, принадлежащие к императорской семь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28600" y="2819520"/>
            <a:ext cx="266688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ским девизом:   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«За службу и храбрость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нта из двух желтых и трех черных полос символизирует огонь и дым сражений, кроме того, эти цвета считались в России «императорски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сканирование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4920" y="2286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057400" y="152280"/>
            <a:ext cx="6858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нциклопедическом путеводителе по истории российских наград сказано, что за время существования этой награ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ью ордена Святого Георгия было награждено 23 человек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ь получили 124 человек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ью были удостоены около 640 человек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ь заслужили около 15 тысяч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и степенями ордена Святого Георгия были награждены только четыре человека –  М.И. Голенищев-Кутузов,           М.Б. Барклай де Толли, И.Ф. Паскевич и И.И. Диб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сканирование3"/>
          <p:cNvPicPr/>
          <p:nvPr/>
        </p:nvPicPr>
        <p:blipFill>
          <a:blip r:embed="rId2"/>
          <a:stretch/>
        </p:blipFill>
        <p:spPr>
          <a:xfrm>
            <a:off x="7238880" y="2895480"/>
            <a:ext cx="160020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Text Box 12"/>
          <p:cNvSpPr/>
          <p:nvPr/>
        </p:nvSpPr>
        <p:spPr>
          <a:xfrm>
            <a:off x="2095560" y="2971800"/>
            <a:ext cx="495288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ниге С.Г. Воскобойникова «Георгиевские кавалеры» рассказывается не только о знаменитых героях-защитниках России, но и о других, известных и не очень, а подчас и несправедливо забытых, которые своими подвигами и самопожертвованием на полях сражений заслужили высшую боевую награду – военный орден Святого великомученика и Победоносца Геор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7238880" y="5638680"/>
            <a:ext cx="1752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кобойников, С.Г. Георгиевские кавалеры. – Ростов-на-Дону, 2011. – 381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сканирование12"/>
          <p:cNvPicPr/>
          <p:nvPr/>
        </p:nvPicPr>
        <p:blipFill>
          <a:blip r:embed="rId3"/>
          <a:stretch/>
        </p:blipFill>
        <p:spPr>
          <a:xfrm>
            <a:off x="152280" y="380880"/>
            <a:ext cx="1752840" cy="26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Text Box 28"/>
          <p:cNvSpPr/>
          <p:nvPr/>
        </p:nvSpPr>
        <p:spPr>
          <a:xfrm>
            <a:off x="228600" y="3200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152280" y="3276720"/>
            <a:ext cx="1447920" cy="21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знецов А.А. Награды: энциклопедический путеводитель по истории российских наград. – Москва: Современник, 1999. – 478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228600" y="5562720"/>
            <a:ext cx="6934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здании приведены списки награжденных офицеров русской армии, описаны войны и сражения, в которых отличились эти герои, изложена история создания ордена и изменения его стату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сканирование33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2286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28600" y="3200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сканирование8"/>
          <p:cNvPicPr/>
          <p:nvPr/>
        </p:nvPicPr>
        <p:blipFill>
          <a:blip r:embed="rId2"/>
          <a:stretch/>
        </p:blipFill>
        <p:spPr>
          <a:xfrm>
            <a:off x="7162920" y="304920"/>
            <a:ext cx="1706400" cy="281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15" descr="сканирование10"/>
          <p:cNvPicPr/>
          <p:nvPr/>
        </p:nvPicPr>
        <p:blipFill>
          <a:blip r:embed="rId3"/>
          <a:stretch/>
        </p:blipFill>
        <p:spPr>
          <a:xfrm>
            <a:off x="196920" y="3886200"/>
            <a:ext cx="170820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ext Box 18"/>
          <p:cNvSpPr/>
          <p:nvPr/>
        </p:nvSpPr>
        <p:spPr>
          <a:xfrm>
            <a:off x="2200320" y="5562720"/>
            <a:ext cx="20574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ргиевская слава Кубани. Пластуны Екатеринодарского отдела. - Краснодар : Традиция, 2014. – 251 с.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238880" y="3456000"/>
            <a:ext cx="1793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ргиевская слава Кубани. Запасные полки Екатеринодарского отдела, артиллеристы и конвойцы - Краснодар : Традиция, 2016. – 197 с.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2200320" y="379404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имо архивных документов: наградных листов, приказов и формуляров –  в издании использованы работы выдающихся историков Кубани, литературные источники и фотоматери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181080" y="223920"/>
            <a:ext cx="685800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телям, без сомнения, хорошо знакомы уникальные публикации издательства «Традиция», в которых видное место занимает история Кубани.                                                      Серия книг «Георгиевская слава Кубани», вышедшая в этом издательстве, адресована патриотам нашей большой и малой Родины – ревнителям российской воинской славы и посвящена кубанским казакам, удостоенным Георгиевских наград, начина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и вплоть до Первой мировой войны.               Авторы обращаются к  читателям: 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«Мы хотели вместе с  вами вспомнить славные имена наших предков. Не забывайте о них, именно их усилиями ковалась мощь России – страны, которой мы гордимся и которую любим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2" descr="1510039_orden-svyatogo-georgiya-pobedonosca11"/>
          <p:cNvPicPr/>
          <p:nvPr/>
        </p:nvPicPr>
        <p:blipFill>
          <a:blip r:embed="rId4"/>
          <a:stretch/>
        </p:blipFill>
        <p:spPr>
          <a:xfrm>
            <a:off x="4695840" y="5586480"/>
            <a:ext cx="172728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1510039_orden-svyatogo-georgiya-pobedonosca11"/>
          <p:cNvPicPr/>
          <p:nvPr/>
        </p:nvPicPr>
        <p:blipFill>
          <a:blip r:embed="rId5"/>
          <a:stretch/>
        </p:blipFill>
        <p:spPr>
          <a:xfrm>
            <a:off x="6175440" y="5943600"/>
            <a:ext cx="17272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сканирование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8600" y="22860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вание «Герой Советского Союз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8600" y="3200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img303"/>
          <p:cNvPicPr/>
          <p:nvPr/>
        </p:nvPicPr>
        <p:blipFill>
          <a:blip r:embed="rId2"/>
          <a:stretch/>
        </p:blipFill>
        <p:spPr>
          <a:xfrm>
            <a:off x="380880" y="762120"/>
            <a:ext cx="3429000" cy="2876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5"/>
          <p:cNvSpPr/>
          <p:nvPr/>
        </p:nvSpPr>
        <p:spPr>
          <a:xfrm>
            <a:off x="457200" y="3733920"/>
            <a:ext cx="327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Ленин                Золотая звез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419720" y="411120"/>
            <a:ext cx="449568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917 года существовала традиция чествовать в день памяти Святого Георгия (26 ноября по старому стилю) всех кавалеров Георгиевских отличий – от таких прославленных людей, как      А.В. Суворов, Г.А. Потемкин,                 Ф.Ф. Ушаков, до простых солдат, матросов и казаков, награжденных Георгиевскими крестами и медалями. Позже этот праздник был отменен, а затем упразднен и орден, который перестал признаваться как государственная награ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41911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 апреля 1934 года Советским правительством была учреждена высшая степень отличия –  звание Героя Советского Союза, а в 1979 году Президиумом Верховного Совета СССР было утверждено новое Положение об орденах, медалях и почетных Званиях СССР. Герою Советского Союза вручалась: высшая награда СССР – орден Ленина, знак особого отличия – медаль «Золотая Звезда» и Грамота Президиума Верховного Совета С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сканирование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4920" y="2286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9" descr="сканирование1"/>
          <p:cNvPicPr/>
          <p:nvPr/>
        </p:nvPicPr>
        <p:blipFill>
          <a:blip r:embed="rId2"/>
          <a:stretch/>
        </p:blipFill>
        <p:spPr>
          <a:xfrm>
            <a:off x="7086600" y="1752480"/>
            <a:ext cx="1828800" cy="285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9" name="Text Box 20"/>
          <p:cNvSpPr/>
          <p:nvPr/>
        </p:nvSpPr>
        <p:spPr>
          <a:xfrm>
            <a:off x="7162920" y="4724280"/>
            <a:ext cx="1752480" cy="21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ая слава Кубани: крат. биограф. справ. О героях Советского Союза, героях России и полных кавалерах ордена Славы. – Краснодар, 2003. – 174с.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04920" y="2286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1066680" y="15228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ми Героями Советского Союза стали 7 летчиков, участвовавших в спасении челюскинцев: А.В. Ляпидевский, С.А. Леваневский,          Б.С. Молоков, Н.П. Каминин, М. Т. Слепнев, М.В. Водопьянов,                   И.В. Дорон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1066680" y="12952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 биографического справочника «Золотая слава Кубани» отмечают, что  кубанцы по праву гордятся тем, что Золотая Звезда Героя Советского Союза № 1 была вручена нашему земляку, уроженцу села Белая Глина А.В. Ляпидевскому. Он в 1934 году в невероятно трудных условиях Заполярья, рискуя жизнью, снял с  льдины и на своем самолете доставил на материк первую партию женщин и детей с затерянного во льдах и затем затонувшего парохода «Челюскин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1510039_orden-svyatogo-georgiya-pobedonosca11"/>
          <p:cNvPicPr/>
          <p:nvPr/>
        </p:nvPicPr>
        <p:blipFill>
          <a:blip r:embed="rId3"/>
          <a:stretch/>
        </p:blipFill>
        <p:spPr>
          <a:xfrm>
            <a:off x="152280" y="152280"/>
            <a:ext cx="533520" cy="1727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1510039_orden-svyatogo-georgiya-pobedonosca11"/>
          <p:cNvPicPr/>
          <p:nvPr/>
        </p:nvPicPr>
        <p:blipFill>
          <a:blip r:embed="rId4"/>
          <a:stretch/>
        </p:blipFill>
        <p:spPr>
          <a:xfrm>
            <a:off x="457200" y="1701720"/>
            <a:ext cx="533520" cy="17272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152280" y="4038480"/>
            <a:ext cx="6715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биографический справочник поможет легко и быстро  найти необходимые сведения о наших земляках – Героях Советского Союза, Героях Российской Федерации и полных кавалерах  ордена Славы. О месте рождения, о роде войск и частях, в которых они служили, об их подвигах, о работе и жизни в послевоенное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акционный коллектив работал над книгой, используя архивные данные, художественно-публицистическую и справочную литера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143000" y="6094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сканирование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838080" y="228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04920" y="2286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3200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152280" y="304920"/>
            <a:ext cx="4724640" cy="56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овый героизм россиян особенно ярко проявился в суровые годы Великой Отечественной войны. В первый же день войны тысячи молодых патриотов пришли в военкоматы с просьбой отправить их в действующую армию. Святой долг перед Отечеством пробудил у народа исполинские силы, неиссякаемую энергию, готовность к самопожертвованию.             На фронте и в тылу подвиг сделался повседневным явлением, нормой поведения миллионов людей. Высшая награда – звание Героя Советского Союза присваивалось только за особые заслуги, за исключительную храбрость и мужество, проявленные в бо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годы Великой Отечественной войны этого высокого звания было удостоено 11,5 тысячи человек, а Георгиевская лента стала символом победы над фашиз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9" descr="47a5f352f5cf9af84ff4a0e671407d3f"/>
          <p:cNvPicPr/>
          <p:nvPr/>
        </p:nvPicPr>
        <p:blipFill>
          <a:blip r:embed="rId2"/>
          <a:srcRect l="0" t="0" r="1809" b="2562"/>
          <a:stretch/>
        </p:blipFill>
        <p:spPr>
          <a:xfrm>
            <a:off x="4952880" y="304920"/>
            <a:ext cx="3962520" cy="5790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1"/>
          <p:cNvSpPr/>
          <p:nvPr/>
        </p:nvSpPr>
        <p:spPr>
          <a:xfrm>
            <a:off x="5334120" y="1981080"/>
            <a:ext cx="3352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А все-таки кто-то пер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 земли поднимался в ата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 все-таки кто-то пер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гонь на себя вызыв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 все-таки кто-то пер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росался под черные т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первый на взятых высо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треленный флаг поднимал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. Обойщ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3" descr="a9477878c4aed92164c6ebc0fe2a32a011222"/>
          <p:cNvPicPr/>
          <p:nvPr/>
        </p:nvPicPr>
        <p:blipFill>
          <a:blip r:embed="rId3"/>
          <a:stretch/>
        </p:blipFill>
        <p:spPr>
          <a:xfrm>
            <a:off x="181080" y="6095880"/>
            <a:ext cx="411480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fia I. Malakhova</dc:creator>
  <dc:description/>
  <dc:language>en-US</dc:language>
  <cp:lastModifiedBy>Сергей Р.В.</cp:lastModifiedBy>
  <dcterms:modified xsi:type="dcterms:W3CDTF">2017-12-04T09:48:44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