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33E7-2C1B-4AD7-836C-A9D17666C8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606F-1492-4F50-8FF2-821230A6DC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555C-2582-4788-9D5B-F71554B19A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188-4B6D-449A-A325-39F2D74E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BAA-3969-495A-980E-A76570A7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949-4E6F-423B-BDCF-7D5B1526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05C-85BF-4EB2-BD21-56F9D29F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E1F-BC00-4B56-9449-1B31AB54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2BB-BE0D-44A6-A0C6-1485A8C1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931-0B39-4FFC-AC84-C5E0FE01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E04-585E-4E3A-AA70-069B4482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106-25BA-4DA1-AB50-F8535701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CB8-DA30-4708-9E44-EC22E461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18C-59B4-4877-8088-D7815C77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202-391C-428E-8CCE-B36CA419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7C6B-58B4-4FCF-9938-995F8DE2C76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326440" cy="5997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:\Год лит\В\2015Из общ.пап\ФЛАГ\IMG_0655.jpg"/>
          <p:cNvPicPr/>
          <p:nvPr/>
        </p:nvPicPr>
        <p:blipFill>
          <a:blip r:embed="rId1"/>
          <a:stretch/>
        </p:blipFill>
        <p:spPr>
          <a:xfrm>
            <a:off x="1332000" y="692280"/>
            <a:ext cx="6696000" cy="5113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H:\Год лит\В\ФЛАГ\Для Флаг\IMG_0649.jpg"/>
          <p:cNvPicPr/>
          <p:nvPr/>
        </p:nvPicPr>
        <p:blipFill>
          <a:blip r:embed="rId1"/>
          <a:stretch/>
        </p:blipFill>
        <p:spPr>
          <a:xfrm>
            <a:off x="826920" y="404640"/>
            <a:ext cx="770580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1116000" y="981000"/>
            <a:ext cx="698508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347760" algn="ctr"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ЛАГ БЕЛО-СИНЕ-КРАС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160" indent="347760" algn="ctr"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160" indent="347760" algn="just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казу царя Алексея Михайловича в 1668 году в подмосковном селе Дединове построили первый русский «воинский корабль» с гордым названием «Орел». Строителями были опытные мореплаватели - голландцы. В документах тех лет указано, что на флаги к корабельному строению были выданы ткани красного, белого и синего цветов. Но ни корабль «Орёл», ни его флаги не сохранились. Поэтому неизвестно, как располагались цвета на полотнищах фла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160" indent="347760" algn="ctr">
              <a:lnSpc>
                <a:spcPts val="1536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ЛАГ ЦAРЯ МОСКОВ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160" indent="347760" algn="just">
              <a:lnSpc>
                <a:spcPts val="15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ь Пётр Первый в 1693 году отправился в Архангельск, чтобы посетить Соловецкий монастырь. Впервые в жизни Пётр увидел настоящие морские корабли разных стран. Он пробыл в Архангельске всё лето, совершал плавания по морю. Архангельскому архиепископу царь пожаловал струг (деревянное речное судно). Самый большой флаг струга - «флаг царя Московского» был сшит из горизонтально расположенных полос белой, синей и красной материи. В центре разместился желтый двуглавый орёл. В 1700 году бело-сине-красные флаги были подняты на сделанном в Воронеже; русскими мастерами корабле «Гото Предестинация» («Божие Предвидение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2232000" cy="5400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539640" y="765000"/>
            <a:ext cx="5616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 самому началу XVIII века относится, пожалуй, первое появление ри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нков флагов России в иностра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ных официальных источниках. В 1700 г. амстердамский издатель Пьер Мортье выпустил книгу с гравюрами морских кораблей разных типов, которая содержала также двенадцать таблиц флагов разных стран. Работа в 1705 г. была переиздана Давидом Мортье и известна как «Книга о флагах» Карла Алярда. Таблицы книги имели рисунки трех флагов «царя Московского». Это были упоминавшиеся бело-сине-красные флаги с прямым крестом, с двуглавым орлом и косым андреевским крестом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ные Петром 1 российские флаги сохранились надолго. Под их  бело-сине-красными полотнищами 27 июня 1709 г. русские войска разбили шведов под Полтавой, в период Семилетней войны с боями прошли Восточную Пруссию и 9 октября 1760 г. вступили в Берлин. Немеркнущей славой озарили русские знамена чудо-богатыри Суворова. Под русскими знаменами 26 августа 1812 г. войска Кутузова насмерть выстояли в Бородинском бо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с белой, синей и красной горизонтальными полосами долгие годы считался государственным, национальн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797360" y="1916280"/>
            <a:ext cx="388800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826920" y="692280"/>
            <a:ext cx="2881440" cy="57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русского флага произошло при Александр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Указе от 11 июня 1858 г</a:t>
            </a:r>
            <a:r>
              <a:rPr b="0" lang="ru-RU" sz="1400" spc="-1" strike="noStrike">
                <a:solidFill>
                  <a:srgbClr val="504845"/>
                </a:solidFill>
                <a:latin typeface="Times New Roman"/>
                <a:ea typeface="Times New Roman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аконены цвета Государственного знамени – черный, желтый и белый. Император подтвердил их как «государственные цвета России». Высочайшее решение об утверждении новых «национальных» цветов России не было понято русским народом. Наряду с чёрно-жёлто-белым флагом сохранился и бело-сине-красный.  Сосуществование двух флагов до 70-х год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Было не очень заметным, украшение флагами зданий не вошло ещ1ё в обычай. Однако вопрос о «двойственности» государственного  российского символа начинает возник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04845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04845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859280" y="2314440"/>
            <a:ext cx="3816360" cy="223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468360" y="549360"/>
            <a:ext cx="38163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опросу о флаге вернулись через 25 лет. Министр внутренних дел граф Толстой представил царю Александру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а флага: черно-желто-белый - как национальный и бело-сине-красный - как торговый. Император повелел иметь в России «один единообразный флаг, состоящий из цветов белого, синего и красного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Бело-сине-красный триколор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л главным флагом страны в 1883 г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ский указ официально предписал: «чтобы в торжественных случаях, когда признается возможным дозволить украшение зданий флагами, был употребляем исключительно русский флаг, состоящий из трех полос: верхней - белого, средней - синего и нижней - красного цвет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и эти цвета имели следующие символические значения: белый - благородство, откровенность; синий - верность, честность, безупречность, целомудренность; красный - мужество, смелость, великодушие, любов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4319640" cy="2016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1835280" y="765000"/>
            <a:ext cx="6481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обеды большевиков вопрос об утверждении Государственного флага рассматривался 8 апреля 1918 г. на заседании Всероссийского Центрального Исполнительного Комитета. 13 апреля 1918 г. декрет ВЦИК Советов рабочих, солдатских, крестьянских и казачьих депутатов объявил: «Флагом Российской Республики устанавливается Красное знамя с надписью «Российская Социалистическая Федеративная Советская Республик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0" descr="Флаг в России 1991 год"/>
          <p:cNvPicPr/>
          <p:nvPr/>
        </p:nvPicPr>
        <p:blipFill>
          <a:blip r:embed="rId1"/>
          <a:stretch/>
        </p:blipFill>
        <p:spPr>
          <a:xfrm>
            <a:off x="2735280" y="2708280"/>
            <a:ext cx="4608360" cy="2460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835280" y="476280"/>
            <a:ext cx="6408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торические изменения в России вернули бело-сине-красный флаг в нашу жизнь. 22 августа 1991 г. было подписано постановление Верховного Совета РСФСР «Об официальном признании и использовании Национального флага РСФСР», в котором говорилось «До  установления специальным законом новой государственной символики РФ считать исторический флаг России – полотнище из равновеликих горизонтальных белой, лазоревой, алой полос – официальным флагом Российской Федераци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84872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H:\Год лит\В\2015Из общ.пап\ФЛАГ\IMG_0649.jpg"/>
          <p:cNvPicPr/>
          <p:nvPr/>
        </p:nvPicPr>
        <p:blipFill>
          <a:blip r:embed="rId1"/>
          <a:stretch/>
        </p:blipFill>
        <p:spPr>
          <a:xfrm>
            <a:off x="971640" y="476280"/>
            <a:ext cx="7272360" cy="5689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11:54:17Z</dcterms:created>
  <dc:creator>Irina V. S.</dc:creator>
  <dc:description/>
  <dc:language>en-US</dc:language>
  <cp:lastModifiedBy>Library</cp:lastModifiedBy>
  <dcterms:modified xsi:type="dcterms:W3CDTF">2019-08-06T14:03:56Z</dcterms:modified>
  <cp:revision>301</cp:revision>
  <dc:subject/>
  <dc:title>Слайд 1</dc:title>
</cp:coreProperties>
</file>