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FE4-F7EE-496C-92F9-52EBF87D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EEE-5666-41B5-9CA4-70E99DE4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7D5-F37D-4156-BBA9-03C7E66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8FC-399D-4786-B3B4-DA567D4B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2F2E-6D79-4CDA-B5EA-9FE5D9D4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2F9D-107F-4909-B4C1-B71102BD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CB7-AAD2-4559-85B6-693E4077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916-BDC1-402A-B815-44F9DE8B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A3B-2AE9-462A-81A4-26578BB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CAA3-F5AD-47AA-824A-B809DA6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AC4-E5D3-40B1-90E1-529B129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0DC-58E6-45ED-989E-7A95696F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3406-DC81-4FED-9873-AC5CFDE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C22-FF12-43BF-9C85-6CB3B0B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98A3-5BB0-433B-BEEC-59E0EEF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666-8DE4-4FD4-9CC2-4D8FD81E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FE70-E018-40EF-A850-2A4B75B0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B26-A5A9-4E07-816F-A12B54E3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EA8-D61D-4EB3-B70F-524CCD6F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CDA-1BCE-4DF8-AC1F-A4849C6B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EA8-2073-410A-85BC-5A62E6C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013-5E03-45DB-B17E-7320139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A63-1112-4DFB-85E5-AA16CE8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CCE-FC47-4E1D-9299-4B275CF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708-02EA-4559-B443-261394E98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EB9-3BD3-4F05-B59C-586190042F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733560" y="289512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раз от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художествен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Литературное обоз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 Международному дню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581280" y="6094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МУЖСКОЙ РАЗГОВ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114800" y="533412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Библиотека им. А.С. 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тдел городского абоне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г. Красно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41280" y="2762280"/>
            <a:ext cx="33098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Рисунок1"/>
          <p:cNvPicPr/>
          <p:nvPr/>
        </p:nvPicPr>
        <p:blipFill>
          <a:blip r:embed="rId1"/>
          <a:stretch/>
        </p:blipFill>
        <p:spPr>
          <a:xfrm>
            <a:off x="228600" y="1146240"/>
            <a:ext cx="6553080" cy="5483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7086600" y="4876920"/>
            <a:ext cx="1905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оголь, Н.В. Тарас Бульба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: повесть / Н. В. Гоголь. - Москва : Русская книга, 1992. - 190 с. : и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7200" y="228600"/>
            <a:ext cx="838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Тарас Бульба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Тарас Бульба» Н.В. Гого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914400" y="1447920"/>
            <a:ext cx="5562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уровый и противоречивый образ отца создал Н.В. Гоголь. У вольного казака Тараса Бульбы на первом месте Родина, борьба со шляхтой, а уж затем – семья. Сыновей своих он тоже воспитывает по-мужски жестко, ему чуждо проявление нежности. За «правое дело», «за други своя» недрогнувшей рукой Тарас убивает сына-предателя. И лишь одна мысль печалит е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- Чем бы не козак был? – сказал Тарас, – и станом высокий, и чернобровый, и лицо как у дворянина, и рука была крепка в бою! Пропал, пропал бесславно, как подлая соба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о именно лицо своего непреклонного отца погибая, мечтал увидеть в последний раз другой его сын, Остап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«…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Хотел бы он теперь увидеть твердого мужа, который бы разумным словом освежил его и утешил при кончине. И упал он силою и воскликнул в душевной не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- Батько! где ты! Слышишь ли т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- Слышу! – раздалось среди всеобщей тишины, и весь миллион народа в одно время вздрогнул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2" descr="486196_1"/>
          <p:cNvPicPr/>
          <p:nvPr/>
        </p:nvPicPr>
        <p:blipFill>
          <a:blip r:embed="rId2"/>
          <a:stretch/>
        </p:blipFill>
        <p:spPr>
          <a:xfrm>
            <a:off x="6934320" y="144792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410080" y="762120"/>
            <a:ext cx="3733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Рисунок1"/>
          <p:cNvPicPr/>
          <p:nvPr/>
        </p:nvPicPr>
        <p:blipFill>
          <a:blip r:embed="rId1"/>
          <a:stretch/>
        </p:blipFill>
        <p:spPr>
          <a:xfrm>
            <a:off x="2438280" y="1146240"/>
            <a:ext cx="6477120" cy="5483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228600" y="48769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Мольер. Скупой :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комедия // Мольер. Комедии / Мольер - Москва : Дет. лит, 1999. – С.131-198. - (Школьная библиоте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277920"/>
            <a:ext cx="8991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Гарпагон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Скупой» Ж.-Б. Молье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048120" y="1447920"/>
            <a:ext cx="5715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стоящий образчик жадности и скопидомст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ерой Ж.-Б. Мольера Гарпагон. Он вызывает и отвращ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жалость, и смех одновременно: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Воры! Воры! … Я погиб, убит, зарезали меня, деньги мои украли! Кто бы это мог быть?... Где он? Куда спрятался?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уда бежать? … Кто это? Стой! Отдай мне деньги, мошенник! (Сам себя ловит за руку.) Ах, это 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аниакальная скупость Гарпагона определяет его отношение к детям. Ради денег он готов выдать дочь Элизу замуж за нелюбимого, а сына Клеанта оставить без средств. Надумав жениться на любимой девушке Клеанта, отец соперничает с сыном, но по комедийным канонам остается с нос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Гарпагон. …Этот висельник имел наглость тоже ее полюбить и тоже хочет на ней жениться, несмотря на то, что я ему запрещаю. Какова наглос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Гарпагон. Я запрещаю тебе показываться мне на глаза!.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Я от тебя отрекаюсь! … Ты мне больше не сын!... Я лишаю тебя наследства!... И проклинаю теб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леант. Сколько милостей сразу!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1" descr="Картинки по запросу Скупой (пьеса) КНИГА мольер"/>
          <p:cNvPicPr/>
          <p:nvPr/>
        </p:nvPicPr>
        <p:blipFill>
          <a:blip r:embed="rId2"/>
          <a:stretch/>
        </p:blipFill>
        <p:spPr>
          <a:xfrm>
            <a:off x="228600" y="1828800"/>
            <a:ext cx="1851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Рисунок1"/>
          <p:cNvPicPr/>
          <p:nvPr/>
        </p:nvPicPr>
        <p:blipFill>
          <a:blip r:embed="rId1"/>
          <a:stretch/>
        </p:blipFill>
        <p:spPr>
          <a:xfrm>
            <a:off x="228600" y="1146240"/>
            <a:ext cx="6553080" cy="5483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6934320" y="4648320"/>
            <a:ext cx="2057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ушкин, А.С. Дубровский; Капитанская дочка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: Романы / А.С. Пушкин. – М., Детская литер., 2001. – 253 С. – (Школьная библиоте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"/>
            <a:ext cx="838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Кирилл Петрвич Троекуров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Дубровский» А.С. Пушк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62120" y="1523880"/>
            <a:ext cx="5943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ирилл Петрович Троекуров – один из самых авторитар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цов в русской литератур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вежественный и тираничный,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...избалованный всем, что только окружало его, он привык давать полную волю всем порывам пылкого своего нрава...». «В домашнем быту Кирилла Петрович выказывал все пороки человека необразованного».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вою дочь Машу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...отец любил… до безумия, но обходился с нею со свойственным ему своенравием, то стараясь угождать малейшим ее прихотям, то пугая ее суровым, а иногда и жестоким обращением...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Несмотря на уговоры и сопротивление молодой девушки, Троекуров насильно выдает ее замуж за пожилого князя Верейского: «Я знаю лучше твоего, что нужно для твоего счастия. Слезы тебе не помогут...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мея незаконнорожденных детей, Троекуров совсем о них не заботился.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Множество босых ребятишек, как две капли воды похожих на Кирилла Петровича, бегали под его окнами и считались дворовыми»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Но такие «мелочи» его не смущал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лишь сын от m-lle Мими был им призн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Aleksandr_Pushkin__Dubrovskij"/>
          <p:cNvPicPr/>
          <p:nvPr/>
        </p:nvPicPr>
        <p:blipFill>
          <a:blip r:embed="rId2"/>
          <a:stretch/>
        </p:blipFill>
        <p:spPr>
          <a:xfrm>
            <a:off x="6934320" y="1447920"/>
            <a:ext cx="1904760" cy="3190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239840" y="0"/>
            <a:ext cx="79041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1"/>
          <p:cNvSpPr/>
          <p:nvPr/>
        </p:nvSpPr>
        <p:spPr>
          <a:xfrm>
            <a:off x="1676520" y="1143000"/>
            <a:ext cx="7086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Уважаемые читатели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Ждем вас в отделе городского абонем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с 9-30 до 19 часов ежедневно, кроме пятницы и последнего дня меся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г. Краснодар, ул. Красная, д.8 Телефон 8(861) 268-52-4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" descr="396"/>
          <p:cNvPicPr/>
          <p:nvPr/>
        </p:nvPicPr>
        <p:blipFill>
          <a:blip r:embed="rId2"/>
          <a:stretch/>
        </p:blipFill>
        <p:spPr>
          <a:xfrm>
            <a:off x="3581280" y="2743200"/>
            <a:ext cx="2895840" cy="21448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5"/>
          <p:cNvSpPr/>
          <p:nvPr/>
        </p:nvSpPr>
        <p:spPr>
          <a:xfrm>
            <a:off x="3581280" y="50292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Материал подготовл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ведущим библиотекарем  отдела городского абонем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Заика И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1239840" y="0"/>
            <a:ext cx="79041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266720" y="3808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ака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ладость в мысли: я отец!»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М.Ю. Лермо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057400" y="243828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асто отец выступает как фоновая фигура, которая просто выполняет положенные ей социальные функции. Типичные приме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тец Петра Гринева в повести «Капитанская дочка» А.С. Пушкина, отец Николень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романе «Детство» Л.Н. Толст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раз авторитарного отца встречается в нескольких вариантах. В русской классике это чаще откровенный самодур и тиран, как у А.Н. Островского (Дикой и Тихон) и Л.Н. Толстого (старый князь Болконский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тивоположный тиран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слабый безвольный отец, человек, который не может справиться с ролью главы семьи, а домашние, включая детей, относятся к нему снисходительно (Стива Облонский в романе Л. Толстого «Анна Каренина», генерал Епанчин из романа Ф. Достоевского «Идиот»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амые симпатичные папы в мировой литератур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те, которые муд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просто добры к своим детям. И таких примеров очень м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обзоре «литературных пап» мы постарались представить разные типы отцов в мировой классической литературе. Конечно наш список не полный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о каждый может найти и пример для подражания, и книгу «по душе»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3962520" y="91440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брые и жестокие, мудрые и глуп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аботливые и беспечные, нежные и грубые, любящие и равнодушные… В литературе,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в жизни, папы бывают разными. На страницах мировой класс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многообразие отцовских типажей, стилей и прак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0" descr="images (1)"/>
          <p:cNvPicPr/>
          <p:nvPr/>
        </p:nvPicPr>
        <p:blipFill>
          <a:blip r:embed="rId2"/>
          <a:stretch/>
        </p:blipFill>
        <p:spPr>
          <a:xfrm>
            <a:off x="2249640" y="396720"/>
            <a:ext cx="17492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1" descr="Рисунок1"/>
          <p:cNvPicPr/>
          <p:nvPr/>
        </p:nvPicPr>
        <p:blipFill>
          <a:blip r:embed="rId1"/>
          <a:stretch/>
        </p:blipFill>
        <p:spPr>
          <a:xfrm>
            <a:off x="2362320" y="1066680"/>
            <a:ext cx="6553080" cy="5639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2"/>
          <p:cNvSpPr/>
          <p:nvPr/>
        </p:nvSpPr>
        <p:spPr>
          <a:xfrm>
            <a:off x="2971800" y="1295280"/>
            <a:ext cx="5715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лассический пример заботливого, трогательно-нежного понимающего родителя –  Василий Иванович Базаров. Но отцу приходится сдерживать порывы своей нежности, чтобы не смущать повзрослевшего сына. Зато разговор с другом Евгения Аркадием – бальзам на душу любящего от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Ваш сын – один из самых замечательных людей, с которыми я когда-либо встречался, – с живостью ответил Аркад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лаза Василия Ивановича внезапно раскрылись, и щеки его слабо вспыхнули. Лопата вывалилась из его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(…) Василий Иванович его слушал, слушал, сморкался, катал платок в обеих руках, кашлял, ерошил свои волосы – и наконец не вытерпел: нагнулся к Аркадию и поцеловал его в плеч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Вы меня совершенно осчастливили, – промолвил он, не переставая улыбаться, – я должен вам сказать, что я... боготворю моего сына; о моей старухе я уже не говорю: известно – мать! но я не смею при нем выказывать свои чувства, потому что он этого не любит. Он враг всех излияний (…), но подобных ему людей не приходится мерить обыкновенным аршином, не правда ли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0" y="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Василий Иванович Базаров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Отцы и дети» А.И. Тургене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4" descr="Картинки по запросу ОТЦЫ И ДЕТИ. ПОВЕСТИ. РАССКАЗЫ. СТИХОТВОРЕНИЯ В ПРОЗЕ"/>
          <p:cNvPicPr/>
          <p:nvPr/>
        </p:nvPicPr>
        <p:blipFill>
          <a:blip r:embed="rId2"/>
          <a:stretch/>
        </p:blipFill>
        <p:spPr>
          <a:xfrm>
            <a:off x="152280" y="1600200"/>
            <a:ext cx="2073240" cy="32767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3" name="Rectangle 25"/>
          <p:cNvSpPr/>
          <p:nvPr/>
        </p:nvSpPr>
        <p:spPr>
          <a:xfrm>
            <a:off x="380880" y="5029200"/>
            <a:ext cx="1981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Arial Narrow"/>
              </a:rPr>
              <a:t>Тургенев, И. С.</a:t>
            </a:r>
            <a:r>
              <a:rPr b="0" lang="ru-RU" sz="1600" spc="-1" strike="noStrike">
                <a:solidFill>
                  <a:srgbClr val="ffffcc"/>
                </a:solidFill>
                <a:latin typeface="Arial Narrow"/>
              </a:rPr>
              <a:t> Отцы и дети / И. С. Тургенев. - М. : ОЛИМП : АСТ, 1998. - 704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Рисунок1"/>
          <p:cNvPicPr/>
          <p:nvPr/>
        </p:nvPicPr>
        <p:blipFill>
          <a:blip r:embed="rId1"/>
          <a:stretch/>
        </p:blipFill>
        <p:spPr>
          <a:xfrm>
            <a:off x="228600" y="1146240"/>
            <a:ext cx="6477120" cy="5559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15228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Граф Ростов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Война и мир» А.Н. Толст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838080" y="1447920"/>
            <a:ext cx="5562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разцом добрейшего и чувствительного отца является герой романа Л.Н. Толстого граф Ростов. Очень трогательны те строки романа, где автор описывает эмоции графа, получившего письмо от сына, уехавшего на вой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Долго Ростовы не имели известий о Николушке; только в середине зимы графу было передано письмо, на адресе которого он узнал руку сына. Получив письмо, гра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спуганно и поспешно, стараясь не быть замеч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на цыпочках пробежал в свой кабинет, заперся и стал читать. Анна Михайловна… тихим шагом вошла к графу и застала его с письмом в руках рыдающим и вместе смеющимся.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Mon bon ami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вопросительно-грустно и с готовностью всякого участия произнесла Анна Михайл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раф зарыдал еще больше. «Николушка… письмо… ранен… бы… был… ma сhere… ранен… голубчик мой… графинюшка… в офицеры произведен… слава Богу… Графинюшке как сказать?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4" descr="L"/>
          <p:cNvPicPr/>
          <p:nvPr/>
        </p:nvPicPr>
        <p:blipFill>
          <a:blip r:embed="rId2"/>
          <a:stretch/>
        </p:blipFill>
        <p:spPr>
          <a:xfrm>
            <a:off x="6934320" y="1371600"/>
            <a:ext cx="1807920" cy="27432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Rectangle 15"/>
          <p:cNvSpPr/>
          <p:nvPr/>
        </p:nvSpPr>
        <p:spPr>
          <a:xfrm>
            <a:off x="7010280" y="4343400"/>
            <a:ext cx="1752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0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Толстой, Л.Н.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ойна и мир : роман / Л. Н. Толстой. - Москва : АСТ : Астрель, 2011. - (Золотая класси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Рисунок1"/>
          <p:cNvPicPr/>
          <p:nvPr/>
        </p:nvPicPr>
        <p:blipFill>
          <a:blip r:embed="rId1"/>
          <a:stretch/>
        </p:blipFill>
        <p:spPr>
          <a:xfrm>
            <a:off x="228600" y="1146240"/>
            <a:ext cx="6477120" cy="5559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6934320" y="4648320"/>
            <a:ext cx="2209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олсуорси, Дж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Сага о Форсайтах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/ Дж. Голсуорси. – М.: Эксмо, 2003. – 960 с. – (Библиотека Всемирной литератур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Сомс Форсайт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Сага о Форсайтах» Д. Голсуор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3520" y="1447920"/>
            <a:ext cx="5790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анным и любящим отцом, готовым ради дочери на все, представляется Сомс Форсайт в английской семей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аге Голсуорси. Будучи собственником по натуре, 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ильно меняется под влиянием своей любви к Фле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Сознавая, что его взгляду свойственно смягчаться, когда он направлен на дочь, Сомс нахмурился, чтобы соблюсти приличествующую истому Форсайту невозмутимос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чь избалованна отцовской любовью.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Каприз! – подумал Сомс, – (…) Она своенравная. Что мне делать? Флер!»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ам того не желая, Сомс пытается помочь Флер завоевать сына своей бывшей жены Джона. И вздыхает свободнее, отдав ее замуж за любящего ее перспективного Майк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Папочка!» Много лет не называла она его так. Придется пройти всю эту суматоху с конфетти и прочей ерундой. Но ему хочется уловить улыбку дочери, когда она выглянет на прощание из машины... Какая-то волна поднялась в груди Сомса, и что-то – не поймешь что – заволокло глаз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2" descr="1000773808"/>
          <p:cNvPicPr/>
          <p:nvPr/>
        </p:nvPicPr>
        <p:blipFill>
          <a:blip r:embed="rId2"/>
          <a:stretch/>
        </p:blipFill>
        <p:spPr>
          <a:xfrm>
            <a:off x="6934320" y="1371600"/>
            <a:ext cx="2000160" cy="31813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Рисунок1"/>
          <p:cNvPicPr/>
          <p:nvPr/>
        </p:nvPicPr>
        <p:blipFill>
          <a:blip r:embed="rId1"/>
          <a:stretch/>
        </p:blipFill>
        <p:spPr>
          <a:xfrm>
            <a:off x="2362320" y="1146240"/>
            <a:ext cx="6553080" cy="5559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228600" y="472428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Ли, Харпер. Убить пересмешника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: роман / Х. Ли. - Москва : АСТ, 2009. – 395 с. - (Зарубежная класси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8991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Аттикус Финч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Убить пкересмешника» Харпер 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971800" y="1295280"/>
            <a:ext cx="5562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ts val="18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удрый и понимающий книжный папа, несомненно,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это адвокат Аттикус Финч южного городка Мейком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штат Алабама. Он никогда не кричит на детей, действуя лаской и убежд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Понимаешь, малышка, если кто-то называет тебя словом, которое ему кажется бранным, это вовсе … не обидно, а только показывает, какой этот человек жалкий. Так что не огорчайся, когда миссис Дюбоз бранится. У неё довольно своих несчасти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ттикус он учит детей жизненной мудрости, сам являясь образцом человечности и порядо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Чтобы я мог жить в мире с людьми, я прежде всего должен жить в мире с самим соб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Почти все люди хорошие, Глазастик, когда их в конце концов поймеш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зрослым и серьезным отношением к детям Аттикус заслуживает уважение своих домочадч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Когда ребёнок о чём-нибудь спрашивает, Джек, ради всего святого, не увиливай, а отвечай. И не заговаривай зубы. Дети есть дети, но они замечают увертки не хуже взрослых, и всякая увертка только сбивает их с толку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u_files_store_1_35929"/>
          <p:cNvPicPr/>
          <p:nvPr/>
        </p:nvPicPr>
        <p:blipFill>
          <a:blip r:embed="rId2"/>
          <a:stretch/>
        </p:blipFill>
        <p:spPr>
          <a:xfrm>
            <a:off x="228600" y="1371600"/>
            <a:ext cx="2021040" cy="32767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Рисунок1"/>
          <p:cNvPicPr/>
          <p:nvPr/>
        </p:nvPicPr>
        <p:blipFill>
          <a:blip r:embed="rId1"/>
          <a:stretch/>
        </p:blipFill>
        <p:spPr>
          <a:xfrm>
            <a:off x="2362320" y="1146240"/>
            <a:ext cx="6553080" cy="5483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28600" y="4800600"/>
            <a:ext cx="1905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ен, Д.  Гордость и предубежд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/ Д. Остен. - М. : Гелеос, 2006. - 416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8991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Мистер Баннет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Гордость и предубеждение» Д. Ост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743200" y="1295280"/>
            <a:ext cx="5791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роничный и остроумный английский литературный папа - отец пятерых дочерей-бесприданниц мистер Баннет. Вынужденный терпеть невежественную жену и парировать поток ее глупостей, сам он - образец сарказма и тонкого английского юмо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Посмотрите! Пятеро бесприданниц, что с ними будет?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– Н-да, что же будет с глупыми существами? Наверное, их нужно было сразу утопи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Будем надеяться, Элизабет простудится и без дождя. И останется, пока не обручится с мистером Дарси. А потом дождемся снега и отправим туда Китти. А если к ним приедет молодой человек, который любит пение и философию, отправим Мэри. А потом появится и молодой красавчик офицер в форме – для Лидии. И все устроитс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– Папа! Мэри опять поет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– К сожалению, я сам слышу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семье мистер Баннет находит утешение в любимой дочери Элизабет и, несмотря на видимую циничность, по-отцовски принимает деятельное участие в судьбе всех своих дочер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9" descr="722-e1435072227526"/>
          <p:cNvPicPr/>
          <p:nvPr/>
        </p:nvPicPr>
        <p:blipFill>
          <a:blip r:embed="rId2"/>
          <a:stretch/>
        </p:blipFill>
        <p:spPr>
          <a:xfrm>
            <a:off x="228600" y="1447920"/>
            <a:ext cx="1968480" cy="3200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410080" y="762120"/>
            <a:ext cx="3733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Рисунок1"/>
          <p:cNvPicPr/>
          <p:nvPr/>
        </p:nvPicPr>
        <p:blipFill>
          <a:blip r:embed="rId1"/>
          <a:stretch/>
        </p:blipFill>
        <p:spPr>
          <a:xfrm>
            <a:off x="304920" y="1146240"/>
            <a:ext cx="6553080" cy="5559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0"/>
            <a:ext cx="899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Простаков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Недоросль» Д.И. Фонвиз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876920"/>
            <a:ext cx="1905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нвизин, Д.И. Недоросл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 Д. И. Фонвизин. - М. : Эксмо, 2007. - 640 с. -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(Русская класси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9907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омедийный образец слабовольного и глупого отца и мужа-подкаблучника - это Простаков из комедии А. Фонвизина. Он именует  себя «жениным мужем», полностью уступая бразды правления супруге, выслушивая ее постоянные оскорбления  и восхищается глупостью сы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Митрофан. Лишь стану засыпать, то и вижу, будто ты, матушка, изволишь бить батюшку…  Так мне и жаль ст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-жа Простакова (с досадою).Кого, Митрофануш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Митрофан. Тебя, матушка: ты так устала, колотя батюш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-жа Простакова. Обойми меня, друг мой сердечный! Вот сынок, одно мое уте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котинин. Ну, Митрофанушка, ты, я вижу, матушкин сынок, а не батюшкин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ростаков. По крайней мере я люблю его, как надлежит родителю, то-то умное дитя, то-то разумное, забавник, затейник; иногда я от него вне себя и от радости сам истинно не верю, что он мой сы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1" descr="30808797"/>
          <p:cNvPicPr/>
          <p:nvPr/>
        </p:nvPicPr>
        <p:blipFill>
          <a:blip r:embed="rId2"/>
          <a:stretch/>
        </p:blipFill>
        <p:spPr>
          <a:xfrm>
            <a:off x="6934320" y="1523880"/>
            <a:ext cx="2035080" cy="3200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Рисунок1"/>
          <p:cNvPicPr/>
          <p:nvPr/>
        </p:nvPicPr>
        <p:blipFill>
          <a:blip r:embed="rId1"/>
          <a:stretch/>
        </p:blipFill>
        <p:spPr>
          <a:xfrm>
            <a:off x="2514600" y="1069920"/>
            <a:ext cx="6324480" cy="5483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228600" y="48769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рибоедов, А.С. Горе от ума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: комедия / А. С. Грибоедов. - Москва : Наука, 1988. - 479 с. - (Литературные памятник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277920"/>
            <a:ext cx="8991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Фамусов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(«Горе от ума» А.С. Грибоед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хожее изображение"/>
          <p:cNvPicPr/>
          <p:nvPr/>
        </p:nvPicPr>
        <p:blipFill>
          <a:blip r:embed="rId2"/>
          <a:stretch/>
        </p:blipFill>
        <p:spPr>
          <a:xfrm>
            <a:off x="228600" y="1523880"/>
            <a:ext cx="2025720" cy="3200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320040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всем не пример для подражания – Фамусов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омедии А.С. Грибоедова. Далекий от идеала отца и нравственного примера, он ханжески осуждает дочь и свою покойную суп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Дочь, Софья Павловна! страмниц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есстыдница! где! с кем! Ни дать, ни взять о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к мать ее, покойница ж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ывало, я с дражайшей полов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Чуть врознь – уж где-нибудь с мужчиной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ам же он не пренебрегает ухаживаниями за служанкой, но беззастенчиво ставит себя всем в пример: «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вободен, вдов, себе я господин… Монашеским известен поведеньем!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чь относится к нему без должного почтения: «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Часто без толку сердит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», «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рюзглив, неугомонен, скор, таков всегда…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». Отец отвечает ей тем ж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се отношение его к отцовству в одной яркой цита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«Что за комиссия, Создател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ыть взрослой дочери отцом!»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Р.В.</cp:lastModifiedBy>
  <dcterms:modified xsi:type="dcterms:W3CDTF">2018-04-26T11:01:34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