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809D-6138-4E2A-AC82-430FFFE9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0274-CED0-4024-9C52-95D00B19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40F-2622-419C-ACD8-F151DF91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35D-482E-4F11-800D-1417AC70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5376-55C3-400A-B6CF-61198A0E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0917-426A-4D12-AFF4-6B7431BE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5B51-39DE-48DD-BC12-9B3383DA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AAB2-50B7-4CC7-AAD7-CED28937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AD2B-2A5C-4C6F-99E6-83A90234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0EFA-24D9-4822-8002-71F01F14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F8CF-D048-4549-865F-F156EE52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4FC-34E9-4599-931B-86421380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1841-78A2-4DA0-8EED-9CE2458B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E922-8D03-44C8-8B65-9C4A298F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A184-4C9F-4483-A5A3-B3F273AB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80ED-D9EF-4242-B83E-0648491A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0C26-A482-4299-8E22-083A42CA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43AB-7172-40E1-9F86-57AE5817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7A7C-76BB-42C2-BE9D-090D89E4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8C3-6E12-4C1E-A70A-A0052582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9DD-92E2-46C2-AE6C-614BDA58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91A-CB8B-48C4-9794-38EA80B8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D68-FF34-44C6-B01D-3FCC22F7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C78D-E8BC-4D62-B613-E8DFA2BA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9D8B-BF0C-4671-9493-2A71D41EB7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EB29-C0F2-4FFB-8ED5-3478680E64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«Мастер «пейзажа настроения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 160-летию со дня рождения Николая Дубовско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(1859 – 1918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P1020970"/>
          <p:cNvPicPr/>
          <p:nvPr/>
        </p:nvPicPr>
        <p:blipFill>
          <a:blip r:embed="rId1"/>
          <a:stretch/>
        </p:blipFill>
        <p:spPr>
          <a:xfrm>
            <a:off x="2438280" y="882720"/>
            <a:ext cx="4267440" cy="50925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324000" y="422100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ОС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88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P1030008"/>
          <p:cNvPicPr/>
          <p:nvPr/>
        </p:nvPicPr>
        <p:blipFill>
          <a:blip r:embed="rId1"/>
          <a:stretch/>
        </p:blipFill>
        <p:spPr>
          <a:xfrm>
            <a:off x="2038320" y="1295280"/>
            <a:ext cx="5067360" cy="4267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50920" y="4149720"/>
            <a:ext cx="144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АЛЬП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8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P1020983"/>
          <p:cNvPicPr/>
          <p:nvPr/>
        </p:nvPicPr>
        <p:blipFill>
          <a:blip r:embed="rId1"/>
          <a:stretch/>
        </p:blipFill>
        <p:spPr>
          <a:xfrm>
            <a:off x="1727280" y="1295280"/>
            <a:ext cx="5689440" cy="42674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132000" y="5877000"/>
            <a:ext cx="288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ТУМАН В ГОР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(«АЙ-ПЕТРИ»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8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P1020984"/>
          <p:cNvPicPr/>
          <p:nvPr/>
        </p:nvPicPr>
        <p:blipFill>
          <a:blip r:embed="rId1"/>
          <a:stretch/>
        </p:blipFill>
        <p:spPr>
          <a:xfrm>
            <a:off x="1727280" y="1295280"/>
            <a:ext cx="5689440" cy="426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3132000" y="5877000"/>
            <a:ext cx="28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ЗИ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P1020985"/>
          <p:cNvPicPr/>
          <p:nvPr/>
        </p:nvPicPr>
        <p:blipFill>
          <a:blip r:embed="rId1"/>
          <a:stretch/>
        </p:blipFill>
        <p:spPr>
          <a:xfrm>
            <a:off x="1727280" y="1295280"/>
            <a:ext cx="5689440" cy="4267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3132000" y="602136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УМЕР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P1030012"/>
          <p:cNvPicPr/>
          <p:nvPr/>
        </p:nvPicPr>
        <p:blipFill>
          <a:blip r:embed="rId1"/>
          <a:stretch/>
        </p:blipFill>
        <p:spPr>
          <a:xfrm>
            <a:off x="1746360" y="1295280"/>
            <a:ext cx="5651280" cy="42674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132000" y="5877000"/>
            <a:ext cx="30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КРАСИВЫЙ ДЕН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P1020986"/>
          <p:cNvPicPr/>
          <p:nvPr/>
        </p:nvPicPr>
        <p:blipFill>
          <a:blip r:embed="rId1"/>
          <a:stretch/>
        </p:blipFill>
        <p:spPr>
          <a:xfrm>
            <a:off x="2438280" y="584280"/>
            <a:ext cx="4267440" cy="5689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250920" y="4149720"/>
            <a:ext cx="19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ДАЧА В ХОСТ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P1020987"/>
          <p:cNvPicPr/>
          <p:nvPr/>
        </p:nvPicPr>
        <p:blipFill>
          <a:blip r:embed="rId1"/>
          <a:stretch/>
        </p:blipFill>
        <p:spPr>
          <a:xfrm>
            <a:off x="2438280" y="584280"/>
            <a:ext cx="4267440" cy="56894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250920" y="4869000"/>
            <a:ext cx="1944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ОСЛ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РОЛИВ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ДОЖД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P1020999"/>
          <p:cNvPicPr/>
          <p:nvPr/>
        </p:nvPicPr>
        <p:blipFill>
          <a:blip r:embed="rId1"/>
          <a:stretch/>
        </p:blipFill>
        <p:spPr>
          <a:xfrm>
            <a:off x="1727280" y="1320840"/>
            <a:ext cx="5689440" cy="4216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3059280" y="5877000"/>
            <a:ext cx="30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РОД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P1020988"/>
          <p:cNvPicPr/>
          <p:nvPr/>
        </p:nvPicPr>
        <p:blipFill>
          <a:blip r:embed="rId1"/>
          <a:stretch/>
        </p:blipFill>
        <p:spPr>
          <a:xfrm>
            <a:off x="2050920" y="1125360"/>
            <a:ext cx="5689800" cy="4229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3348000" y="5803920"/>
            <a:ext cx="360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 ОБИТЕЛ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(ТРОИЦЕ-СЕРГИЕВА ЛАВР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10-19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P1020960"/>
          <p:cNvPicPr/>
          <p:nvPr/>
        </p:nvPicPr>
        <p:blipFill>
          <a:blip r:embed="rId1"/>
          <a:stretch/>
        </p:blipFill>
        <p:spPr>
          <a:xfrm>
            <a:off x="2556000" y="620640"/>
            <a:ext cx="4051080" cy="5761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 rot="12503400">
            <a:off x="250920" y="2707920"/>
            <a:ext cx="22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P1020997"/>
          <p:cNvPicPr/>
          <p:nvPr/>
        </p:nvPicPr>
        <p:blipFill>
          <a:blip r:embed="rId1"/>
          <a:stretch/>
        </p:blipFill>
        <p:spPr>
          <a:xfrm>
            <a:off x="2438280" y="641520"/>
            <a:ext cx="4267440" cy="55749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948360" y="4869000"/>
            <a:ext cx="21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ЧАЙКИ НА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ОР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P1020998"/>
          <p:cNvPicPr/>
          <p:nvPr/>
        </p:nvPicPr>
        <p:blipFill>
          <a:blip r:embed="rId1"/>
          <a:stretch/>
        </p:blipFill>
        <p:spPr>
          <a:xfrm>
            <a:off x="2438280" y="584280"/>
            <a:ext cx="4267440" cy="56894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250920" y="4149720"/>
            <a:ext cx="201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У СКАЛИСТ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БЕРЕГ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P1020993"/>
          <p:cNvPicPr/>
          <p:nvPr/>
        </p:nvPicPr>
        <p:blipFill>
          <a:blip r:embed="rId1"/>
          <a:stretch/>
        </p:blipFill>
        <p:spPr>
          <a:xfrm>
            <a:off x="2438280" y="584280"/>
            <a:ext cx="4267440" cy="56894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50920" y="4149720"/>
            <a:ext cx="2017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ВЕЖИЙ ВЕТЕР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10-19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P1020990"/>
          <p:cNvPicPr/>
          <p:nvPr/>
        </p:nvPicPr>
        <p:blipFill>
          <a:blip r:embed="rId1"/>
          <a:stretch/>
        </p:blipFill>
        <p:spPr>
          <a:xfrm>
            <a:off x="1727280" y="1295280"/>
            <a:ext cx="5689440" cy="42674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3132000" y="587700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НАДВИГАЕТСЯ ТУЧ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P1020995"/>
          <p:cNvPicPr/>
          <p:nvPr/>
        </p:nvPicPr>
        <p:blipFill>
          <a:blip r:embed="rId1"/>
          <a:stretch/>
        </p:blipFill>
        <p:spPr>
          <a:xfrm>
            <a:off x="1727280" y="1295280"/>
            <a:ext cx="5689440" cy="42674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3132000" y="607860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ЗАК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P1020992"/>
          <p:cNvPicPr/>
          <p:nvPr/>
        </p:nvPicPr>
        <p:blipFill>
          <a:blip r:embed="rId1"/>
          <a:stretch/>
        </p:blipFill>
        <p:spPr>
          <a:xfrm>
            <a:off x="2635200" y="584280"/>
            <a:ext cx="3873600" cy="56894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50920" y="4221000"/>
            <a:ext cx="216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У ВАСИ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БЛАЖЕННОГ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16-19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P1030004"/>
          <p:cNvPicPr/>
          <p:nvPr/>
        </p:nvPicPr>
        <p:blipFill>
          <a:blip r:embed="rId1"/>
          <a:stretch/>
        </p:blipFill>
        <p:spPr>
          <a:xfrm>
            <a:off x="1727280" y="1917720"/>
            <a:ext cx="5689440" cy="3022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 flipV="1">
            <a:off x="3059280" y="594000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987640" y="551664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ЗИ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88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P1020969"/>
          <p:cNvPicPr/>
          <p:nvPr/>
        </p:nvPicPr>
        <p:blipFill>
          <a:blip r:embed="rId1"/>
          <a:stretch/>
        </p:blipFill>
        <p:spPr>
          <a:xfrm>
            <a:off x="1727280" y="1415880"/>
            <a:ext cx="5689440" cy="4026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3059280" y="566100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ИШКИНА БАЛ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88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P1030005"/>
          <p:cNvPicPr/>
          <p:nvPr/>
        </p:nvPicPr>
        <p:blipFill>
          <a:blip r:embed="rId1"/>
          <a:stretch/>
        </p:blipFill>
        <p:spPr>
          <a:xfrm>
            <a:off x="1727280" y="1695600"/>
            <a:ext cx="5689440" cy="34668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3059280" y="566100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РИТИХЛ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8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4000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P1030009"/>
          <p:cNvPicPr/>
          <p:nvPr/>
        </p:nvPicPr>
        <p:blipFill>
          <a:blip r:embed="rId1"/>
          <a:stretch/>
        </p:blipFill>
        <p:spPr>
          <a:xfrm>
            <a:off x="1727280" y="1339920"/>
            <a:ext cx="5689440" cy="41781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3132000" y="5661000"/>
            <a:ext cx="28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НА ВОЛГ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4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P1020981"/>
          <p:cNvPicPr/>
          <p:nvPr/>
        </p:nvPicPr>
        <p:blipFill>
          <a:blip r:embed="rId1"/>
          <a:stretch/>
        </p:blipFill>
        <p:spPr>
          <a:xfrm>
            <a:off x="2438280" y="615960"/>
            <a:ext cx="4267440" cy="56260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179280" y="4869000"/>
            <a:ext cx="19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РАДУГ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P1020977"/>
          <p:cNvPicPr/>
          <p:nvPr/>
        </p:nvPicPr>
        <p:blipFill>
          <a:blip r:embed="rId1"/>
          <a:stretch/>
        </p:blipFill>
        <p:spPr>
          <a:xfrm>
            <a:off x="2013120" y="1295280"/>
            <a:ext cx="5117760" cy="4267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250920" y="4149720"/>
            <a:ext cx="1441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ИМАТ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(ВОДОПА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ИМАТР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8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P1020968"/>
          <p:cNvPicPr/>
          <p:nvPr/>
        </p:nvPicPr>
        <p:blipFill>
          <a:blip r:embed="rId1"/>
          <a:stretch/>
        </p:blipFill>
        <p:spPr>
          <a:xfrm>
            <a:off x="1727280" y="1739880"/>
            <a:ext cx="5689440" cy="33782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3132000" y="5589720"/>
            <a:ext cx="28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ТИХИЙ ДО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880-е ГО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6:58:32Z</dcterms:created>
  <dc:creator>Валентина</dc:creator>
  <dc:description/>
  <dc:language>en-US</dc:language>
  <cp:lastModifiedBy>Сергей Р.В.</cp:lastModifiedBy>
  <dcterms:modified xsi:type="dcterms:W3CDTF">2018-12-20T13:31:33Z</dcterms:modified>
  <cp:revision>5</cp:revision>
  <dc:subject/>
  <dc:title>Слайд 1</dc:title>
</cp:coreProperties>
</file>